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</p:sldIdLst>
  <p:sldSz cx="6858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 Box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 Box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6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03F2A-5436-45DC-83C7-9F768A398D4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5C2AE-90EC-4E70-B04C-5DDC24BF339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6707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Accueillir les participants et débuter le dernier module des Ateliers Vitali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nvitez les participants à s’install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Ce module étant le dernier, il est conçu de manière différente des autres modul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endant environ 30 minutes, après la séquence sur les aides pour aménager son logement et avant l’évaluation du programme, l’animateur a la liberté de proposer une animation, une activité, une intervention, un goûter convivial, etc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77A6D-6E39-4C69-B98B-33766ECDBAA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372960" y="4714560"/>
            <a:ext cx="6050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Repérer les risques de chute dans la maison et aménager son logement pour les évi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emander aux participants, au fur et à mesure des « clics » sur la diapositive, quels sont les aménagements faciles ou plus importants à réaliser dans sa chambre pour éviter les chu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aire à chaque fois le lien avec les scénarios précédents : qu’aurait pu faire la personne comme aménagement pour éviter la chute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88B43-FD7A-4E41-81AA-057ED0DA28A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372960" y="4714560"/>
            <a:ext cx="6050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Repérer les risques de chute dans la maison et aménager son logement pour les évi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emander aux participants, au fur et à mesure des « clics » sur la diapositive, quels sont les aménagements faciles ou plus importants à réaliser dans son séjour pour éviter les chu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aire à chaque fois le lien avec les scénarios précédents : qu’aurait pu faire la personne comme aménagement pour éviter la chute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13224-00B4-41F5-A550-D5C68BEE874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372960" y="4714560"/>
            <a:ext cx="6050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: Repérer les risques de chute dans la maison et aménager son logement pour les évi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emander aux participants, au fur et à mesure des « clics » sur la diapositive, quels sont les aménagements faciles ou plus importants à réaliser dans les sanitaires pour éviter les chu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aire à chaque fois le lien avec les scénarios précédents : qu’aurait pu faire la personne comme aménagement pour éviter la chute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DBCF8-98AC-4019-A43E-45F10DCBFF3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372960" y="4714920"/>
            <a:ext cx="61214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Repérer les 4 principales modifications à apporter à son intérieur pour éviter les chu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aire le récapitulatif des éléments vus durant la séquence en insistant sur les 4 éléments qu’il faut avoir en tête pour aménager au mieux sa mais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0F3CC-1419-46E7-9B8B-A8CEDF91BA0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372960" y="4714920"/>
            <a:ext cx="6050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Connaître les organismes relais dans l’aménagement de son log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A6806-A9AA-4E7F-A7BB-64D7FB18A6D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372960" y="4675320"/>
            <a:ext cx="612144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Connaître les organismes relais dans l’aménagement de son log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nformer les participants sur les organismes pouvant orienter et/ou accompagner les personnes dans l’aménagement du domicile.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Connaissent-ils ces organismes ? Ont-ils déjà fait appel à eux ? Comment cela s’est-il passé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En connaissent-ils d’autres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D0592-487B-4285-8D3E-A2B9DFDA670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372960" y="4642920"/>
            <a:ext cx="6121440" cy="14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Connaître les organismes relais dans l’aménagement de son log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nformer les participants sur les aides financières possibles : ont-ils déjà bénéficié d’aides ? Quels conseils peuvent-ils donner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lerter sur le fait que les dossiers prennent du temps à être constitués et à être traités égal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GIR = niveau de perte d’autonomie de la personne âgé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7B992-8833-444B-929A-62DF2162767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338040" y="4601880"/>
            <a:ext cx="6120000" cy="142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Auto-évaluer les risques pour son domicile et engager la réflexion sur les aménagements à y appor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emander aux participants s’ils ont amélioré leur logement en avançant en âge et s’ils pensent encore avoir des choses à améliorer pour prévenir les risques de chu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istribuer les feuilles d’autodiagnostic de son logement et inviter les participants à le remplir à la maison pour faire un point complet sur leur logeme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CDCE9-458E-46F4-BCE4-134AE05A025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372600" y="4714560"/>
            <a:ext cx="57452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ause de 15 minu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25E46-E378-47E4-B431-2D88235076E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372960" y="4714920"/>
            <a:ext cx="6121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Clôturer collectivement les Ateliers Vitali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lusieurs possibilités pour ce dernier temps avant l’évaluation finale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Repérer les activités proposées sur le territoire pour continuer à prendre soin de sa santé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aire le lien avec les autres programmes du Bien Vieillir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teliers Nutri Activ’ : 6 séances pour comprendre l’intérêt d’associer de bonnes habitudes alimentaires à une activité physique réguliè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EPS Eurêka : 10 séances destinées à mobiliser l’attention et la concentration, développer l’expression orale, élaborer des repères spatio-temporel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Cap Bien-être : 5 séances pour connaitre les émotions, les piliers de la qualité de vie, apprendre à gérer son stress, bien vivre avec soi, bien vivre avec les autr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telier PHARE : 3 modules pour comprendre les addictions au tabac, à l’alcool, aux médicaments et connaître les professionnels ressourc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teliers Equilibre : Environ 10 séances pour aider à réduire les risques de chutes et à garder l'équilibr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nciter les participants à s’inscrire à d’autres ateliers de prévention et d’échanges (prévoir flyer, formulaire d’inscription…). Compléter par les activités déjà mentionnées par les participants tout au long du programme des Ateliers Vitali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nviter un partenaire pour approfondir une thématique (attention au temps d’intervention !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emander aux participants s’ils ont envie de faire perdurer le groupe et si oui, comment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Recueillir les désirs de chacun pour une prise de contact ultérieur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nciter les participants à s’inscrire à des activités sociales (pas forcément de prévention), car elles contribuent à renforcer le bien-être, le lien social, l’activité physique et sont donc à encourag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roposer un goûter convivial de clôture après l’évaluation avec de petits gadgets « cadeaux » / goodies pour le group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Refaire la Choré Vitali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CA9BA-F4E5-41C2-91FD-404CC5D9CD2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9908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Présenter le module 6.1 « Un chez moi adapté, un chez moi adopté ! »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Ce module est le dernier des ateliers. Le thème a été choisi à la fin du module 4. Comme un « dernier jour d’école », ce module va être différent des précédents et sera beaucoup plus ludiqu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83481-FE2C-491C-B87D-6E852A57828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917640" y="20952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372960" y="4142880"/>
            <a:ext cx="612144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Evaluer les Ateliers Vitali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ancer un tour de table pour l’évaluation orale du programme en proposant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’abord, chacun écrit quel est le module qu’il a le plus apprécié et celui qu’il a le moins appréci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Ensuite, inviter les participants à donner ces informations à l’or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F39FD-3231-426B-ADC6-AE51DABCD6F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372960" y="4714560"/>
            <a:ext cx="6121440" cy="12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Evaluer et clôturer les Ateliers Vitalit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Remercier les seniors de leur particip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vant de partir, demander à chaque participant de répondre au questionnaire T1.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istribuer le T1, laisser un temps pour que chacun le complète et vérifier que vous disposez de tous les questionnaires avant le départ des participant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0D7F2-DE32-4EA7-B469-5EF4A15E45C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0D052-8A72-40A4-AC73-B9CF398F5E4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372960" y="4714560"/>
            <a:ext cx="60501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 PL SungtiL GB"/>
              </a:rPr>
              <a:t>Objectif :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résenter le module 6.1 « Un chez moi adapté, un chez moi adopté ! »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u programme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es chutes : les éléments perturbateurs et les moyens de rendre son domicile plus sûr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es activités proposées sur le territoire pour continuer à prendre soin de sa santé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’évaluation du cycle des Ateliers Vitalité. Les participants devront répondre au questionnaire T1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istribuer les chevalets, si nécessa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84F19-82CA-4479-AB52-D09DF66BE1E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372960" y="4714560"/>
            <a:ext cx="612144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Faire prendre conscience des risques de chute dans la mais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Commencer le module par l’animation « Devine comment c’est arrivé  » qui va faire prendre conscience à chacun des risques de chute dans sa maison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iviser le groupe en 3 ou 4 sous-group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Expliquer le but de l’animation : Chaque groupe va devoir créer une histoire ou un scénario qui raconte une chute dans une pièce de la maiso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our aider à la création du scénario, chaque groupe aura un document pour l’aider à inventer son histoir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Chaque groupe aura un élément du tableau qui lui sera attribuée (pièce, élément perturbateur…), afin d’avoir plus de diversité dans les scénario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près avoir inventé son histoire, chaque sous-groupe devra mimer, devant tout le monde, l’histoire de la chute. Les autres participants devront trouver le scénari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3BA3C-2165-47D9-9519-03651DFA171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372960" y="4714920"/>
            <a:ext cx="6050160" cy="243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Faire prendre conscience des risques de chute dans la mais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oursuivre l’explication de l’animation « Cluedo-mime »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Sur chaque feuille, les sous-groupes auront 1 élément imposé 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a pièce, le lieu de la chute : la cuisine, la chambre, le salon ou la salle de bain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’élément perturbateur : C’est ce qui va causer la chute, ce sera soit un obstacle, un défaut d’éclairage, un défaut d’appui ou un sol glissant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Chaque sous-groupe devra inventer les autres éléments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e prénom de la personne qui va chu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’action : ce qu’elle était en train de faire au moment de sa chu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e moment de la journée : matin, midi, après-midi, soir, au lever, au coucher, au moment du repas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’élément déclencheur de la chute : ce qui fait qu’on va se mettre en mouvement comme un bruit, une sensation, une envie, une émotion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263B7-617F-4B24-BE82-4C6FE5EA468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372960" y="4714560"/>
            <a:ext cx="6121440" cy="29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Faire prendre conscience des risques de chute dans la mais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oursuivre l’explication de l’animation « Cluedo-mime » en donnant l’exemple du scénario « Martine »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Expliquer au groupe que l’on peut mimer seul ou à plusieurs. Si les autres ne devinent pas uniquement avec le mime, ils ont le droit de poser des questions, mais le groupe qui mime peut uniquement répondre par oui ou par n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Bien préciser que cette activité doit tenir compte des capacités de chacun. Pas d’obligation et pas de prise de risque inuti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onner le top départ pour que chaque sous-groupe réfléchisse à son histoire et prépare son mime. Laisser 5 à 10 minutes de temps de prépar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Passer dans les sous-groupes pour aider si nécessaire à la créativité, leur proposer d’ajouter des détails pour que le mime soit plus compréhensible par les autres…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Quand les sous-groupes sont prêts 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emander à chaque sous groupe de mimer son histoire. Solliciter ensuite les autres participants pour qu’ils racontent ce qu’ils ont compr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Inviter les participants à reprendre place pour continuer votre déroulé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335D2-03C4-4231-95E1-111FE1B1A26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301680" y="4714560"/>
            <a:ext cx="6121440" cy="17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Faire prendre conscience des risques de chute dans la mais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ors de l’animation, 4 types d’éléments perturbateurs ont été imposé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Au fur et à mesure de la présentation des éléments, rappeler l’exemple qui a été pris pour le scénario inventé précédemment par le sous-groupe (ex Martine : sol glissant/risque de glissade) et compléter par les autres exemples cités dans la diapositiv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Les participants ont peut-être vécu des chutes dont ils souhaiteront faire part au groupe. Dans ce cas, demandez-leur quel type d’élément perturbateur ont provoqué leurs chu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Si nécessaire, il est possible de se servir de cette diapositive au début du temps de préparation des scénarios par les sous-groupes si les participants ont des difficultés à mettre des exemples sur les éléments dits perturbateur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63C2C-5B65-464C-A719-2F43BE0A78E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64696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Repérer les risques de chute dans la maison et aménager son logement pour les évi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A2997-646D-46BE-A9C9-B44DA34A601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 PL SungtiL GB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193680" y="4648320"/>
            <a:ext cx="640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Objectif : Repérer les risques de chute dans la maison et aménager son logement pour les évite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Demander aux participants, au fur et à mesure des « clics » sur la diapositive, quels sont les aménagements faciles ou plus importants à réaliser dans sa cuisine pour éviter les chut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  <a:ea typeface="Arial"/>
              </a:rPr>
              <a:t>Faire à chaque fois le lien avec les scénarios précédents : qu’aurait pu faire la personne comme aménagement pour éviter la chute 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0A055-57B1-4BB6-A968-D7C2F9BF3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BECFE-5AE8-4C14-8849-F85BBD548D8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8E3897-99FC-4910-89BF-C9ECEC6219A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5509E-819D-45D6-9588-9376DFB73F1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D0835-A2C9-42FC-9AB3-05847C03B83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A3CA4-E40C-4DBF-BA60-5FA70CF8D35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DE4D5-BF4B-4940-B196-F5AA0A2CC5E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40657B-9A53-4444-B2FF-9AFDEF84CE3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D89BB-2018-4B2D-8DEF-BFF645E93DA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9FEB45-66FA-4030-BBFA-B1B9F4735E2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8B6FF-29B5-4C94-8753-FFC85183BD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5C2BB-D50D-4068-BAC2-2EBF9AF51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8CF5-9B47-4964-A4BC-21612093500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B4E5-91F4-4C0A-B476-291A6722DF9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D96A2-923E-405C-8B11-FAC41291230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C8B4-71F4-4F63-B312-3C0A2265952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989AF-F6A4-49C3-B40A-F3C99317345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2034-285A-4276-8DD7-4979AE3DC8B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4E82D-6BF4-482C-BA20-4E616BEAC3A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61AFF-0230-4732-B6E3-D191EE36498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FB39-ED83-496A-BD81-7179BB83696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7A52-6DE4-4E98-A4A8-5E8AD2FDA49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741BB-6ACF-4663-8C3B-EB5DE274C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7239-C78F-4BBE-91C2-BE0194F954F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27D1B-7F5E-43C4-A631-1FEDE9F7E0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7F0284-E092-4343-99D0-B950CEF2D3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27705-2B83-40C2-BDB6-556D376DF5A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88268D-9D35-4CB5-BD4E-B79C0EBBDE0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86F93B-4CB1-4C26-82F8-11618809518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98347-5E64-455C-BFDF-5FD73A9E26C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AE8479-8422-420D-B38F-3D352940244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091D63-7311-4304-BB53-70F364A2406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38E488-3BB4-48EC-A53F-CF32159013F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BB65BE-563B-4A59-9977-01147C147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6F9C-44DE-4BC2-9479-2625687E57B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3C3F38-34AE-4723-B2D1-43C0C7E3219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C3A42F-9E05-41C0-94F0-728749DB24C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1AB9A-A1C3-4638-A503-A5503EDD063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B2A35-FA27-42E2-A7DC-944290E2E53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60DBA-31D0-46F6-B740-5E22B10DBD9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F1C7E5-9AA6-42CB-BA10-21AC9050D2F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F975F9-F0B0-439C-9A41-523523BD9E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4BCCF-3E68-4063-BDCA-5B47550BA75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27C9F-16D1-45A6-A28F-4BAEC69233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0CF78-CC38-44F4-B741-045151225F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ED754-E2C2-4CBF-8508-D0CCA4DAA3E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C108AD-FC94-4FB7-926F-30096055447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0D792-9BB7-4BBF-8316-AE7FEEA8459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2F6E74-8FD0-4650-831D-3F7600BB388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B3B94-7812-48D6-B412-856CF932BE0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653BA-A19F-4FB1-B641-64DC689B114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FF3AC-8E56-48EF-8F5E-696F07ED765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8C8F2-E867-48F5-884A-2DE2FF15EEF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E5E5-6F95-43B4-9B61-F69EB7E9CF5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5E92A-388F-49A3-BC50-70F523DCA22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69B74-3921-4F47-A5D5-5AE813AB85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AFD1-162E-46C3-89E8-514235A4D5F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3596-7C1B-4429-A0ED-C80BBA2FD55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E6E8-3E61-454E-85CE-9A9ED14ED93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40F75-3858-4DBE-854D-EB51BBABDA0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A2A4E-3DB6-4717-AFC1-85E4CAE2013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25AAC-39E0-4E46-8F05-DFDEF8B8B1A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68CEB-793C-4EDD-8666-3E9062E51FD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519BF-B73A-4419-99F4-161A96B0F0A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4A4D85-FCCE-4E4A-A21F-D812290BF65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F1AA48-4510-43D5-AE79-4B1C4C57418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618FDE-BEF1-4190-9100-6AC64C268A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C83A-35EE-4314-A1DA-C6610CE4823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5837B9-566E-4899-B055-6DACA5C6BA7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505DBE-35E3-4DE1-A89C-DD3F039E199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6708F5-D916-4B0F-B739-CDFBAEA7C44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296F08-67E0-4DBA-B800-7A0E76262B7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557575-DE71-4A5B-B2E6-F7EE8239760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7E3DF8-2027-4658-B1E5-39D84BA32C6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1886AF-F3AE-4AF2-83B1-ED45FD9EDC9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29127-2B24-48C6-8562-6D02987E928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699D7B-089C-4D55-A111-D841E99D33D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3AA1E-1B58-4870-B8A0-AFEAFB0DA93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AFD1-9D39-46BF-B655-12FC8324A2B2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BE9E4C-8306-45D1-A454-C0B1BC7C217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6171F-6F12-4F4C-BFD1-C0B9A357999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10AF4-F391-464B-86CD-9DCF789B01C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4CB85-A92F-4BB5-B28F-FD8C8D33C56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001409-B2A4-431C-815E-8C33AC871FB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FBBCB-5BAD-45C1-8D8B-5E1B57657CB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8AE2CE-23DC-427B-928E-18723A5E26F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37190-12C3-4E57-9808-A961CB12FDA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395AC-D103-4B6B-9F2D-1ECAB1C903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0F61A-2E0C-4553-BDC6-BA78319DDDB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5224C3-C0A9-464C-89F1-E7059AB62EF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BED3D-6C9C-40E1-961B-2351C0B62BC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A887A-8D94-499C-A63F-5A7D06453F8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EC4E-D4C6-4876-94D1-8476C59F11C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B0325-EFEC-4D7E-B9DF-A7EDB9C3E633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D8C1E-7129-41DA-A7CA-CEB3A5D9D44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1C169-9674-42D9-AB65-C562A2D6E22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15F7E-4146-435A-9C62-AD9511D3328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9196C-F4E5-4768-B838-989ECAFBF3A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E0399-CED1-499B-BBF2-9958955EB5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845F4-DC37-42B6-8D88-142532966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0E9FA-7E2C-4FD0-AD81-10C700A8594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8564B-7AD4-4C53-BF11-F30F852808C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544EE-8EE0-46EB-BD4D-C853A60CD0E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9589-9BE1-4E08-82FA-FE82770245B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CCF36-FEC2-4EF4-B2C1-DDC8EA52E6B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4BFCF-9DB1-473E-B072-BA8AE7B8968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1C00EE-0D87-4E3C-8BC4-BFDBF4F5231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2FBF45-EDA4-445E-9143-0B38A3654AD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7D3EEF-F2CB-4615-9E9D-90A6B118727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7E9F10-80F2-4847-B470-97F115F422E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8CF719-CFAC-4C1D-ADCC-30C79B4FC5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BE717-1DCD-41DD-A16E-5DF8952E471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F278DB-D799-4DD5-9C94-BEFBA473CAA9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F83BB8-DAE5-4E4D-ABBB-F6B05A80C73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31F0EF-4FBA-4866-9DC6-EAE4456653D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1FC77B-96FC-437B-8486-2E917E3CE044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9C053-A46F-4725-9CB7-2580E827561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1A5036-548D-45B3-95C8-EEF800D5850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4F23B9-BC3D-43CE-BBA5-8C659C2BCAA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A9551-BB18-42A8-8D78-082EFA03AE60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74F6C-C220-4EA3-9484-E7E9FA8F852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FB04CB-AD74-417D-A11D-F9F17D8468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7D0A-1B68-4A5D-AD06-FC4F74910E4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91F42-0005-4681-BF59-1731787D2B7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83943-8C3C-44DE-A75A-F7DD085546C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BF278-3252-44BD-84F5-A9CC5D58E5F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B919FF-2752-4C22-B6CD-878E0818B31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2BF7C-D21F-448C-9B40-661F24B0320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B0371-2FFA-4EB0-AE34-2E8FB473625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26C74D-827C-4512-A3C2-7ED252D09AC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286EF-3CDA-4020-9505-116EBED41FED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3378B-94C8-4442-8A32-F86346B831B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ABB58-E444-4958-838B-2EAC09E5B3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D24C-CE1A-48A4-97E0-0955C99E145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0DB69-34B6-4D5A-9D7E-B76C785E434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8F01-974C-49C7-9231-AAEB7D71EA6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60B8E-4F3E-4A9E-8E10-E5019CEAE92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B933-72D1-4FFC-95E8-B0EB33B49F3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A8F86-5655-43C9-9C83-0516D5C82FB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77D82-73D0-4E11-A2E9-482349183C4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5D33A-C1F0-49D3-AE6F-4CA008B44C5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BC79-7ED2-4534-8D14-EAB0BC3CAF1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7DE17-06E6-4EF9-9508-E23688099AE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9C930-CB65-4A22-86AD-B6B6A073FB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9BB23-9A1A-40B1-B152-1A33ADC13F1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AFB7-1E81-4C39-8E9A-2732A54577C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F64A72-5D74-4AD4-85D1-3EE799952CA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8BCDBD-4D1C-4DEB-BE64-D4BF887457DC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590289-7165-48AB-BE3E-B765B6C45ED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03BBFA-F4E4-43BD-A074-7C9D05FCD26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3B2DC3-7F32-40A6-BB19-78FA301A6F9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E6611D-3A00-4213-91DF-C1056547E4B9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DF29C2-BFBB-414E-ADB5-6BE07A10F88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DF2FF2-9986-489C-A716-E5B8E48DDB0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7A097B-840B-4B42-B4C9-3BCA8C2F78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7F0-90BA-4364-9056-20129481CEB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66AA5F-C4A8-4FC1-9BDD-A006D2FD1A8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EA0D25-DCC7-4965-985A-0BDE4826778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9A1D87-825D-4969-BD6E-A8E4719AAA6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DE453-6996-42D1-8D5C-7681AD72768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08AA5-552B-4C72-A536-D2B0D3B045A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913CAF-1064-47E3-9061-585F59CC78B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AA91AE-16B0-4D5F-987F-0589B129FC1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072D9-0DE3-48D3-9651-1306EC2BDF0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8BBAE-971A-40B4-8B26-585E52A5C3B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538EEA-14E5-4789-B04E-00D26DAB7B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36F-5DA3-4AD1-9775-5BCFE97F8AC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F7A490-4BDC-483E-92FC-3A941FCB90E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760EF-D88A-4455-80C4-9B9DF34C1FD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0845DD-71D8-4A4C-BC1B-9CE765F2785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58B71-9312-4612-8081-83AB54C5FE1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01BED-16AB-451B-8E64-B680CEAA144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3DD8-CA0D-4081-A26D-11B0DD4A2AD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2FF3-F60D-45F3-80F5-32F92031AB6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C2D96-D33F-4754-AC75-53E2EB6C01F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6F67B-DE98-4B92-91D3-B6E50641440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09643-1942-4401-95B6-005C2EA735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B41-61F4-4346-A5CC-45784A6D956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9ACE6-8EE2-4BAF-B005-CBB6EC0359F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B3BA0-21A3-4E0E-981A-0B277754126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ADF8-9CF9-4CB4-83AF-0ADC19C3FC3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108B9-D704-4A85-A46D-41DEDFDEFD1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FEA1-C368-48ED-923D-351FF8AE3EC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8422F-42E0-463A-9F1E-B7923F0168B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BF63A-6BA4-4904-8A90-F8F05963627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D6990D-7925-4C59-8FC9-227B2EEB544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CBA945-F5DA-4E25-A163-E643F07F2B3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246F59-B35D-4BFA-97FA-375FB9E48B0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D25-43E4-456E-84D6-F7AC3933F89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C5F26D-AD56-47FD-8D62-DFADA956D10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CB60E6-3E9E-4992-A9F0-AFFBD83A9849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255EEC-A358-4EC5-B939-3E1155529D2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AE1859-262B-4C8D-A94A-8EE55E31D40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A2390C-9E67-4FF4-985F-25A2C3F8287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B37972-BB78-4B1D-91D9-474B890203F0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E57938-BAED-4127-AAE5-A961C17228C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0C830A-1669-4451-9E75-B219FE01F9D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FAFA50-BC3E-40AE-A55F-59E25A162DB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2FA0D5-D647-47A9-BB12-2C6A9CEE5E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902-B483-414D-B7B6-B597FA49AF0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4DE253-B4B9-40AD-B54D-A7550B63D03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C7371-C38D-4D9D-B221-E27FCB5BFE9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4A024E-DF92-4567-B18B-5881F8002DC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94493C-A150-4ABB-9423-FDAB2A9259D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A123C-1AAF-4B80-87D3-30B3FB92732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2C3981-1B3B-4A38-AC2A-F48B9787803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5566F0-104B-45F3-A250-C58DADEC521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6338A0-B093-4946-8C5B-31671820E06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A6AA3D-B119-4622-982A-BEAFE2D017C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7941CF-9005-4793-8B22-E65450EEEF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F090-48B7-407B-BCF6-EDFEA37BD3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FFC-D30F-4208-BE8F-ECF73FDC7A8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A32AFC-B5A3-4AD5-80E0-0254DE7AA18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ACB8-B13B-47FA-81FC-1F9A2A57F53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BF339-A7A8-4B5A-B53A-66943A4C9236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80058-BA40-4571-8CEA-09024DE2D3B1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7F33F-3EE0-42B1-B5C1-E6B7BF8B5D6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4310B-5D27-485A-982A-E892387CBA2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3DDC8-2ACB-43A1-8B7C-525C46670E81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62BEC-F3B8-4FDB-85D7-EC910817D9E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89C52-C007-4461-A400-4A74094B0F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7EC-3F18-43E0-96C8-E26A48A4AE59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250A5-8FA7-4DFC-A268-E57D88D02DFE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78DBC-4461-4F00-9A67-85417675C60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F5A1E-8B87-4900-918E-18D79E9BA9AE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D918A-6BD6-4F2A-B9E1-010F3D6C9AF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E1C07-7710-4748-A558-72B965FEA5C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64622-91EA-4E7A-827A-32C7FFC9B517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D743C-067C-4FD0-8061-EF3CCFA0641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232C6-EF70-4D1A-8FEF-F976EF51AC66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6FE245-49EF-46E6-AD3E-B6B063B5342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F0397-45CF-47EA-8F89-711748129B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B55-BF72-45FC-B45F-A46D8750E9FC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2C0AA-C1FD-47D3-851D-8FA0B0C62423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243FDB-0E50-461E-9D62-FACEEA63161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ACAB8-1AFD-4377-A40E-2D30EEDE6A55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7CB4D5-3F4A-4074-8D97-D85ACFAA3439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42886-5D3D-4465-B12A-DA98A205D70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1D9068-338C-482B-B482-7DEC7323059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E8F91-23A8-4457-8046-3E85B20FE0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D26-41C1-42AF-955C-D6709BF54E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990-A0AE-4362-B0D8-451AB73FE5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7E4-E6B0-44B9-8C29-B1D85E9A1F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6C465-1C98-42F4-82D0-75941A6EEE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1E596-BA92-4592-909C-C86108643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C93B-B1B6-45D1-8C64-C8559B29ED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3C635-FA0B-4552-B789-7C6DCFAEC65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28060-D221-4965-AC2C-1FA3B795303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22421-802E-4E5B-A78A-4F71CA4B202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23CF9-0323-47AE-B907-27B9D774856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DAB35-911D-4172-BE85-9A1B78734E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03E8C-A1B6-42E7-936D-D97C989340D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F0563-B938-4C93-B136-2AADE688F3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184D8-4638-4F98-8D34-87695034CD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58702-E9C2-48EE-9BD9-747F17F5600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5EF3E-E4CE-45FF-B51D-13283231E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EA61-1F01-4462-9316-6138FB5760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33104-1A68-4B57-B911-7ECE7AFAEB0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07047-0F35-4AE2-9A07-EF6351C384A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5B259-9115-4405-8015-8BF9478BD6D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CE07C-308C-4F5C-80C8-CBE64B16CC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89DE1-0E87-49FC-9A97-6C02F9BB419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C80B3-A73D-4388-BCFC-7D4B99051BD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965D7-FB27-4F88-8E9D-C70DE028CA6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F9157-E9D0-4CE5-A20F-9F54CB55602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CC5C1-BEDF-4C5E-8109-0E973C382CC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F0D98-C742-4D5E-80FF-83C684079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64BD-16CA-4AAC-8FE7-765A8C67341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0150F-1606-45CD-A4F5-600F7D4A554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A99B6-1783-4C28-A08D-16EE661548A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5BFE1-915D-4A0B-BDB1-DCE4B20D71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30A6-3175-4514-9C40-965A52ED11A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D83A-9AAC-4655-8AA5-8955D1C959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223D-CF82-4304-BA53-1EFEF216DB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7983-E8E2-4762-AFB9-33E963E25C9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D408-C252-4459-A397-4C99467E6B0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3F05-B8A1-49D2-B7A7-BAF9CDDF3E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5FE7-4620-4306-8FE8-0E4CA16FC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A0AA-64A5-4F44-A7AB-00248DA101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0922-CE5C-4C7A-A21F-2EF02B5F9D9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1A17-1341-4112-BBF1-1DD42DEA26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D443-A829-46D2-A7C6-E2F5A974B9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8EE1-1098-4DD9-A993-9EA7D31CC0B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2733-3CDF-4CFB-BD3C-E636B87CE39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1533D-5321-4482-8385-9A83A813391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C2D24-E4C1-4FF0-B53D-CEAEDA09365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9D8329-348A-44EC-992B-F987004FA0F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D2CFDD-49C3-4041-A7BC-CFCD7B564EA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957ED-6BF0-4023-9FA2-AC300C349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5EB0-7C09-47CF-87DD-762464BCDED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04640" y="182160"/>
            <a:ext cx="6048720" cy="335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BB3C76-642D-492E-B295-A3F669E4D9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47193-D7DD-4A79-9925-8D89A56F8D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7740D-864C-4FF9-8D73-25408EB0F77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FACFB2-3EDA-4F21-A616-1C0AB75AD8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04640" y="2578320"/>
            <a:ext cx="604872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F789FB-C21F-4124-B896-B9591DBA323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04240" y="116856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046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504240" y="2578320"/>
            <a:ext cx="295164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662675-3599-4FEC-A87D-FE3C699E2E3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45016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495320" y="116856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0464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45016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4495320" y="2578320"/>
            <a:ext cx="1947600" cy="12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01A4B5-FD89-4EC4-A6A4-EED32B7F630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C388C-6302-415D-A166-172AF190BF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47DF7-DD2F-418A-873E-89E3B3B012F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7040" indent="0">
              <a:spcBef>
                <a:spcPts val="1826"/>
              </a:spcBef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CD651-C513-4977-8B5C-EB59A0662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13044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F2952-EC37-4FD5-9803-D9A327E4F198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9"/>
          </p:nvPr>
        </p:nvSpPr>
        <p:spPr>
          <a:xfrm>
            <a:off x="613044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0C854-14B2-41E0-B329-E21ECA777692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10"/>
          </p:nvPr>
        </p:nvSpPr>
        <p:spPr>
          <a:xfrm>
            <a:off x="613044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B535A-F770-483F-ADC4-10DBB24A247D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11"/>
          </p:nvPr>
        </p:nvSpPr>
        <p:spPr>
          <a:xfrm>
            <a:off x="613044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6C029-0CD8-4BEA-B35C-42868D11C32B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12"/>
          </p:nvPr>
        </p:nvSpPr>
        <p:spPr>
          <a:xfrm>
            <a:off x="613044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329D3-62BD-4000-B6FE-D283D836068F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13"/>
          </p:nvPr>
        </p:nvSpPr>
        <p:spPr>
          <a:xfrm>
            <a:off x="613044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160D5-5AC5-42E6-AFEE-5116056F2E5D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1"/>
          <p:cNvSpPr/>
          <p:nvPr/>
        </p:nvSpPr>
        <p:spPr>
          <a:xfrm>
            <a:off x="0" y="0"/>
            <a:ext cx="6856560" cy="423720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Group 2"/>
          <p:cNvGrpSpPr/>
          <p:nvPr/>
        </p:nvGrpSpPr>
        <p:grpSpPr>
          <a:xfrm>
            <a:off x="5645160" y="4510080"/>
            <a:ext cx="1050480" cy="430200"/>
            <a:chOff x="5645160" y="4510080"/>
            <a:chExt cx="1050480" cy="430200"/>
          </a:xfrm>
        </p:grpSpPr>
        <p:pic>
          <p:nvPicPr>
            <p:cNvPr id="566" name="Picture 3" descr=""/>
            <p:cNvPicPr/>
            <p:nvPr/>
          </p:nvPicPr>
          <p:blipFill>
            <a:blip r:embed="rId2"/>
            <a:stretch/>
          </p:blipFill>
          <p:spPr>
            <a:xfrm>
              <a:off x="6042600" y="4510080"/>
              <a:ext cx="65304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4" descr=""/>
            <p:cNvPicPr/>
            <p:nvPr/>
          </p:nvPicPr>
          <p:blipFill>
            <a:blip r:embed="rId3"/>
            <a:stretch/>
          </p:blipFill>
          <p:spPr>
            <a:xfrm>
              <a:off x="5645160" y="4511520"/>
              <a:ext cx="32220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Num" idx="14"/>
          </p:nvPr>
        </p:nvSpPr>
        <p:spPr>
          <a:xfrm>
            <a:off x="6076800" y="4700520"/>
            <a:ext cx="3765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65CB3-494A-4251-B452-CA200550071C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sldNum" idx="15"/>
          </p:nvPr>
        </p:nvSpPr>
        <p:spPr>
          <a:xfrm>
            <a:off x="6076800" y="4700520"/>
            <a:ext cx="3765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43FDE-E92A-48E1-A115-8E7964107376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16"/>
          </p:nvPr>
        </p:nvSpPr>
        <p:spPr>
          <a:xfrm>
            <a:off x="6076800" y="4700520"/>
            <a:ext cx="3765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BEE8F-7DA7-4790-A42C-B74311E05520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17"/>
          </p:nvPr>
        </p:nvSpPr>
        <p:spPr>
          <a:xfrm>
            <a:off x="6076800" y="4700520"/>
            <a:ext cx="3765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3D922-D1BA-4529-9101-1D36CCE7D0B3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2565360" y="4700520"/>
            <a:ext cx="388800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MSA (Affichage &gt; En-tête et pied de page) – JJ/MM/AAAA    </a:t>
            </a:r>
            <a:fld id="{81A5459B-73B7-4F2E-B81C-7CC7AA158229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sldNum" idx="18"/>
          </p:nvPr>
        </p:nvSpPr>
        <p:spPr>
          <a:xfrm>
            <a:off x="6076800" y="4700520"/>
            <a:ext cx="3765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C99BC-01FB-4DAE-8940-4419AA653AED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sldNum" idx="19"/>
          </p:nvPr>
        </p:nvSpPr>
        <p:spPr>
          <a:xfrm>
            <a:off x="6076800" y="4700520"/>
            <a:ext cx="3765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18EA0-3920-4D23-88C7-FCC56EE89B89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sldNum" idx="20"/>
          </p:nvPr>
        </p:nvSpPr>
        <p:spPr>
          <a:xfrm>
            <a:off x="6076800" y="4700520"/>
            <a:ext cx="3765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E4E3D-99A7-42E5-929E-90CA1ABE1D0C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sldNum" idx="21"/>
          </p:nvPr>
        </p:nvSpPr>
        <p:spPr>
          <a:xfrm>
            <a:off x="6076800" y="4700520"/>
            <a:ext cx="3765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8860B-97F0-4FBE-95C4-8D34DCCD137E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Num" idx="22"/>
          </p:nvPr>
        </p:nvSpPr>
        <p:spPr>
          <a:xfrm>
            <a:off x="6076800" y="4700520"/>
            <a:ext cx="3765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39AB5-A718-40B7-A267-9A2FB7E861E0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 type="sldNum" idx="23"/>
          </p:nvPr>
        </p:nvSpPr>
        <p:spPr>
          <a:xfrm>
            <a:off x="6076800" y="4700520"/>
            <a:ext cx="37656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F3D5F-69DB-4E49-9623-C1B17CB40B05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1"/>
          <p:cNvSpPr/>
          <p:nvPr/>
        </p:nvSpPr>
        <p:spPr>
          <a:xfrm>
            <a:off x="0" y="0"/>
            <a:ext cx="6856560" cy="423720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2"/>
          <p:cNvSpPr/>
          <p:nvPr/>
        </p:nvSpPr>
        <p:spPr>
          <a:xfrm>
            <a:off x="1270080" y="4659480"/>
            <a:ext cx="426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Atelier 1 - Le meilleur pour vieill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sldNum" idx="24"/>
          </p:nvPr>
        </p:nvSpPr>
        <p:spPr>
          <a:xfrm>
            <a:off x="596880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A8AED-2DA7-44CF-9A2A-B95FDDA22A2A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 Box 2"/>
          <p:cNvSpPr/>
          <p:nvPr/>
        </p:nvSpPr>
        <p:spPr>
          <a:xfrm>
            <a:off x="1270080" y="4659480"/>
            <a:ext cx="42670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Atelier 1 - Le meilleur pour vieill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sldNum" idx="25"/>
          </p:nvPr>
        </p:nvSpPr>
        <p:spPr>
          <a:xfrm>
            <a:off x="596880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0F153-6654-4464-B26A-F3C69A1A3816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596880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30804-1FE1-4DFC-ACA7-A6E3E67637A3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0" y="0"/>
            <a:ext cx="6856560" cy="423720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Group 2"/>
          <p:cNvGrpSpPr/>
          <p:nvPr/>
        </p:nvGrpSpPr>
        <p:grpSpPr>
          <a:xfrm>
            <a:off x="5676840" y="4443480"/>
            <a:ext cx="1052640" cy="430200"/>
            <a:chOff x="5676840" y="4443480"/>
            <a:chExt cx="1052640" cy="430200"/>
          </a:xfrm>
        </p:grpSpPr>
        <p:pic>
          <p:nvPicPr>
            <p:cNvPr id="122" name="Picture 3" descr=""/>
            <p:cNvPicPr/>
            <p:nvPr/>
          </p:nvPicPr>
          <p:blipFill>
            <a:blip r:embed="rId2"/>
            <a:stretch/>
          </p:blipFill>
          <p:spPr>
            <a:xfrm>
              <a:off x="6074640" y="4443480"/>
              <a:ext cx="65484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"/>
            <p:cNvPicPr/>
            <p:nvPr/>
          </p:nvPicPr>
          <p:blipFill>
            <a:blip r:embed="rId3"/>
            <a:stretch/>
          </p:blipFill>
          <p:spPr>
            <a:xfrm>
              <a:off x="5676840" y="4444920"/>
              <a:ext cx="322560" cy="42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09720" y="4543560"/>
            <a:ext cx="4538520" cy="6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Module 6.1 – Un chez moi adapté, un chez moi adopté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4"/>
          </p:nvPr>
        </p:nvSpPr>
        <p:spPr>
          <a:xfrm>
            <a:off x="613044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DF5ED-D34E-4B40-BFD0-3C30F3CC77CC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5"/>
          </p:nvPr>
        </p:nvSpPr>
        <p:spPr>
          <a:xfrm>
            <a:off x="6184440" y="4700520"/>
            <a:ext cx="53820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322C2-5AFE-4077-AAF1-175E82749E4B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6"/>
          </p:nvPr>
        </p:nvSpPr>
        <p:spPr>
          <a:xfrm>
            <a:off x="613044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6059B-9B4C-4BD7-8AA1-1A274E2D16BF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7"/>
          </p:nvPr>
        </p:nvSpPr>
        <p:spPr>
          <a:xfrm>
            <a:off x="613044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124E0-EB4A-4110-BC14-8670F7031C31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0" y="4525920"/>
            <a:ext cx="6856560" cy="620640"/>
          </a:xfrm>
          <a:prstGeom prst="rect">
            <a:avLst/>
          </a:prstGeom>
          <a:solidFill>
            <a:srgbClr val="919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998640" y="4659480"/>
            <a:ext cx="4538520" cy="6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Module 6.1 – Un chez moi adapté, un chez moi adopté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4640" y="182160"/>
            <a:ext cx="6048720" cy="7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1" lang="en-US" sz="2400" spc="-1" strike="noStrike">
                <a:solidFill>
                  <a:srgbClr val="919dca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919dca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04640" y="1168560"/>
            <a:ext cx="6048720" cy="26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03040" indent="0">
              <a:spcBef>
                <a:spcPts val="1826"/>
              </a:spcBef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3040" indent="-203040">
              <a:spcBef>
                <a:spcPts val="18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43080"/>
                <a:tab algn="l" pos="685800"/>
                <a:tab algn="l" pos="1028880"/>
                <a:tab algn="l" pos="137160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772080"/>
                <a:tab algn="l" pos="4114800"/>
                <a:tab algn="l" pos="4457880"/>
                <a:tab algn="l" pos="4800600"/>
                <a:tab algn="l" pos="5143680"/>
                <a:tab algn="l" pos="5486400"/>
                <a:tab algn="l" pos="5829480"/>
                <a:tab algn="l" pos="6172200"/>
                <a:tab algn="l" pos="6515280"/>
                <a:tab algn="l" pos="6858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8"/>
          </p:nvPr>
        </p:nvSpPr>
        <p:spPr>
          <a:xfrm>
            <a:off x="6130440" y="4700520"/>
            <a:ext cx="4842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54FB4-40FC-45F9-A840-856ECCDC64BE}" type="slidenum">
              <a:rPr b="0" lang="fr-FR" sz="9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s://france-renov.gouv.fr/aides/maprimeadapt" TargetMode="Externa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Text Box 1"/>
          <p:cNvSpPr/>
          <p:nvPr/>
        </p:nvSpPr>
        <p:spPr>
          <a:xfrm>
            <a:off x="512640" y="844560"/>
            <a:ext cx="5834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1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Les Ateliers Vitalit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6" name="Picture 2" descr=""/>
          <p:cNvPicPr/>
          <p:nvPr/>
        </p:nvPicPr>
        <p:blipFill>
          <a:blip r:embed="rId1"/>
          <a:stretch/>
        </p:blipFill>
        <p:spPr>
          <a:xfrm>
            <a:off x="1170000" y="1224000"/>
            <a:ext cx="4427640" cy="2548080"/>
          </a:xfrm>
          <a:prstGeom prst="rect">
            <a:avLst/>
          </a:prstGeom>
          <a:ln w="0">
            <a:noFill/>
          </a:ln>
        </p:spPr>
      </p:pic>
      <p:sp>
        <p:nvSpPr>
          <p:cNvPr id="1137" name="Text Box 3"/>
          <p:cNvSpPr/>
          <p:nvPr/>
        </p:nvSpPr>
        <p:spPr>
          <a:xfrm>
            <a:off x="4724280" y="3873600"/>
            <a:ext cx="17290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Module 6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8" name="Picture 5" descr=""/>
          <p:cNvPicPr/>
          <p:nvPr/>
        </p:nvPicPr>
        <p:blipFill>
          <a:blip r:embed="rId2"/>
          <a:stretch/>
        </p:blipFill>
        <p:spPr>
          <a:xfrm>
            <a:off x="5446800" y="4300560"/>
            <a:ext cx="1071360" cy="66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1"/>
          <p:cNvSpPr/>
          <p:nvPr/>
        </p:nvSpPr>
        <p:spPr>
          <a:xfrm>
            <a:off x="324000" y="271440"/>
            <a:ext cx="60498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80880" indent="-255600">
              <a:lnSpc>
                <a:spcPct val="100000"/>
              </a:lnSpc>
              <a:spcBef>
                <a:spcPts val="2537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614520"/>
                <a:tab algn="l" pos="1300320"/>
                <a:tab algn="l" pos="1987560"/>
                <a:tab algn="l" pos="2673360"/>
                <a:tab algn="l" pos="3359160"/>
                <a:tab algn="l" pos="4044960"/>
                <a:tab algn="l" pos="4730760"/>
                <a:tab algn="l" pos="5416560"/>
                <a:tab algn="l" pos="6102360"/>
                <a:tab algn="l" pos="6788160"/>
                <a:tab algn="l" pos="74754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4a568a"/>
                </a:solidFill>
                <a:latin typeface="Arial"/>
                <a:ea typeface="Arial"/>
              </a:rPr>
              <a:t>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Rendre sa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chambre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 plus sû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255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614520"/>
                <a:tab algn="l" pos="1300320"/>
                <a:tab algn="l" pos="1987560"/>
                <a:tab algn="l" pos="2673360"/>
                <a:tab algn="l" pos="3359160"/>
                <a:tab algn="l" pos="4044960"/>
                <a:tab algn="l" pos="4730760"/>
                <a:tab algn="l" pos="5416560"/>
                <a:tab algn="l" pos="6102360"/>
                <a:tab algn="l" pos="6788160"/>
                <a:tab algn="l" pos="74754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6" name="Picture 2" descr=""/>
          <p:cNvPicPr/>
          <p:nvPr/>
        </p:nvPicPr>
        <p:blipFill>
          <a:blip r:embed="rId1"/>
          <a:stretch/>
        </p:blipFill>
        <p:spPr>
          <a:xfrm>
            <a:off x="6427800" y="6261120"/>
            <a:ext cx="351000" cy="135000"/>
          </a:xfrm>
          <a:prstGeom prst="rect">
            <a:avLst/>
          </a:prstGeom>
          <a:ln w="0">
            <a:noFill/>
          </a:ln>
        </p:spPr>
      </p:pic>
      <p:sp>
        <p:nvSpPr>
          <p:cNvPr id="1187" name="Text Box 3"/>
          <p:cNvSpPr/>
          <p:nvPr/>
        </p:nvSpPr>
        <p:spPr>
          <a:xfrm>
            <a:off x="4726080" y="6288120"/>
            <a:ext cx="2097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janvier 2016 – Calyxis – Tous droits réservé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 Box 4"/>
          <p:cNvSpPr/>
          <p:nvPr/>
        </p:nvSpPr>
        <p:spPr>
          <a:xfrm>
            <a:off x="473040" y="1506600"/>
            <a:ext cx="342756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ménagements fac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5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213E60-630F-448C-92CF-4FB354CF6628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6"/>
          <p:cNvSpPr/>
          <p:nvPr/>
        </p:nvSpPr>
        <p:spPr>
          <a:xfrm>
            <a:off x="135000" y="1949400"/>
            <a:ext cx="16747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Vérifi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a hauteur du l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7"/>
          <p:cNvSpPr/>
          <p:nvPr/>
        </p:nvSpPr>
        <p:spPr>
          <a:xfrm>
            <a:off x="1963800" y="2871720"/>
            <a:ext cx="13510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Supprim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a descente de l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 Box 8"/>
          <p:cNvSpPr/>
          <p:nvPr/>
        </p:nvSpPr>
        <p:spPr>
          <a:xfrm>
            <a:off x="1689120" y="2011320"/>
            <a:ext cx="13492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Organ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a table de nu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Text Box 9"/>
          <p:cNvSpPr/>
          <p:nvPr/>
        </p:nvSpPr>
        <p:spPr>
          <a:xfrm>
            <a:off x="128520" y="2908440"/>
            <a:ext cx="17668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Eclair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e chemin des toilet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4" name="Picture 10" descr=""/>
          <p:cNvPicPr/>
          <p:nvPr/>
        </p:nvPicPr>
        <p:blipFill>
          <a:blip r:embed="rId2"/>
          <a:stretch/>
        </p:blipFill>
        <p:spPr>
          <a:xfrm>
            <a:off x="324000" y="849240"/>
            <a:ext cx="556920" cy="371520"/>
          </a:xfrm>
          <a:prstGeom prst="rect">
            <a:avLst/>
          </a:prstGeom>
          <a:ln w="0">
            <a:noFill/>
          </a:ln>
        </p:spPr>
      </p:pic>
      <p:sp>
        <p:nvSpPr>
          <p:cNvPr id="1195" name="Text Box 11"/>
          <p:cNvSpPr/>
          <p:nvPr/>
        </p:nvSpPr>
        <p:spPr>
          <a:xfrm>
            <a:off x="4024440" y="1230480"/>
            <a:ext cx="28350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vaux plus impor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Text Box 12"/>
          <p:cNvSpPr/>
          <p:nvPr/>
        </p:nvSpPr>
        <p:spPr>
          <a:xfrm>
            <a:off x="4780080" y="2006640"/>
            <a:ext cx="13507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Chang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votre matel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13"/>
          <p:cNvSpPr/>
          <p:nvPr/>
        </p:nvSpPr>
        <p:spPr>
          <a:xfrm>
            <a:off x="4616280" y="2593800"/>
            <a:ext cx="182736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Install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un détecteur de fumé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Text Box 14"/>
          <p:cNvSpPr/>
          <p:nvPr/>
        </p:nvSpPr>
        <p:spPr>
          <a:xfrm>
            <a:off x="4854600" y="3363840"/>
            <a:ext cx="134928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Ins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des sanitaires à l’ét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Text Box 15"/>
          <p:cNvSpPr/>
          <p:nvPr/>
        </p:nvSpPr>
        <p:spPr>
          <a:xfrm>
            <a:off x="1239840" y="3732120"/>
            <a:ext cx="13492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Réorgan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sa penderi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7" dur="2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 Box 1"/>
          <p:cNvSpPr/>
          <p:nvPr/>
        </p:nvSpPr>
        <p:spPr>
          <a:xfrm>
            <a:off x="385920" y="220680"/>
            <a:ext cx="6049800" cy="3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80880" indent="-255600">
              <a:lnSpc>
                <a:spcPct val="100000"/>
              </a:lnSpc>
              <a:spcBef>
                <a:spcPts val="2537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614520"/>
                <a:tab algn="l" pos="1300320"/>
                <a:tab algn="l" pos="1987560"/>
                <a:tab algn="l" pos="2673360"/>
                <a:tab algn="l" pos="3359160"/>
                <a:tab algn="l" pos="4044960"/>
                <a:tab algn="l" pos="4730760"/>
                <a:tab algn="l" pos="5416560"/>
                <a:tab algn="l" pos="6102360"/>
                <a:tab algn="l" pos="6788160"/>
                <a:tab algn="l" pos="74754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Rendre son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séjour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 plus sû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614520"/>
                <a:tab algn="l" pos="1300320"/>
                <a:tab algn="l" pos="1987560"/>
                <a:tab algn="l" pos="2673360"/>
                <a:tab algn="l" pos="3359160"/>
                <a:tab algn="l" pos="4044960"/>
                <a:tab algn="l" pos="4730760"/>
                <a:tab algn="l" pos="5416560"/>
                <a:tab algn="l" pos="6102360"/>
                <a:tab algn="l" pos="6788160"/>
                <a:tab algn="l" pos="74754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255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614520"/>
                <a:tab algn="l" pos="1300320"/>
                <a:tab algn="l" pos="1987560"/>
                <a:tab algn="l" pos="2673360"/>
                <a:tab algn="l" pos="3359160"/>
                <a:tab algn="l" pos="4044960"/>
                <a:tab algn="l" pos="4730760"/>
                <a:tab algn="l" pos="5416560"/>
                <a:tab algn="l" pos="6102360"/>
                <a:tab algn="l" pos="6788160"/>
                <a:tab algn="l" pos="74754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1" name="Picture 2" descr=""/>
          <p:cNvPicPr/>
          <p:nvPr/>
        </p:nvPicPr>
        <p:blipFill>
          <a:blip r:embed="rId1"/>
          <a:stretch/>
        </p:blipFill>
        <p:spPr>
          <a:xfrm>
            <a:off x="6427800" y="6261120"/>
            <a:ext cx="351000" cy="135000"/>
          </a:xfrm>
          <a:prstGeom prst="rect">
            <a:avLst/>
          </a:prstGeom>
          <a:ln w="0">
            <a:noFill/>
          </a:ln>
        </p:spPr>
      </p:pic>
      <p:sp>
        <p:nvSpPr>
          <p:cNvPr id="1202" name="Text Box 3"/>
          <p:cNvSpPr/>
          <p:nvPr/>
        </p:nvSpPr>
        <p:spPr>
          <a:xfrm>
            <a:off x="4726080" y="6288120"/>
            <a:ext cx="2097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janvier 2016 – Calyxis – Tous droits réservé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4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DEFE2D-3946-4794-8D0E-4BD9E2C10644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476280" y="2330280"/>
            <a:ext cx="13510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Elimi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es obsta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314280" y="3216240"/>
            <a:ext cx="13510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Matérial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es baies vitré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 Box 7"/>
          <p:cNvSpPr/>
          <p:nvPr/>
        </p:nvSpPr>
        <p:spPr>
          <a:xfrm>
            <a:off x="2060640" y="2330280"/>
            <a:ext cx="13507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Fixer les tapis et les f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7" name="Picture 8" descr=""/>
          <p:cNvPicPr/>
          <p:nvPr/>
        </p:nvPicPr>
        <p:blipFill>
          <a:blip r:embed="rId2"/>
          <a:stretch/>
        </p:blipFill>
        <p:spPr>
          <a:xfrm>
            <a:off x="230040" y="785880"/>
            <a:ext cx="1084320" cy="723960"/>
          </a:xfrm>
          <a:prstGeom prst="rect">
            <a:avLst/>
          </a:prstGeom>
          <a:ln w="0">
            <a:noFill/>
          </a:ln>
        </p:spPr>
      </p:pic>
      <p:sp>
        <p:nvSpPr>
          <p:cNvPr id="1208" name="Text Box 9"/>
          <p:cNvSpPr/>
          <p:nvPr/>
        </p:nvSpPr>
        <p:spPr>
          <a:xfrm>
            <a:off x="314280" y="1846440"/>
            <a:ext cx="295272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ménagements fac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 Box 10"/>
          <p:cNvSpPr/>
          <p:nvPr/>
        </p:nvSpPr>
        <p:spPr>
          <a:xfrm>
            <a:off x="4138560" y="1147680"/>
            <a:ext cx="2718000" cy="6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</a:rPr>
              <a:t>Travaux plus import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 Box 11"/>
          <p:cNvSpPr/>
          <p:nvPr/>
        </p:nvSpPr>
        <p:spPr>
          <a:xfrm>
            <a:off x="2060640" y="3216240"/>
            <a:ext cx="15667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Matérial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es marches isolé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Text Box 12"/>
          <p:cNvSpPr/>
          <p:nvPr/>
        </p:nvSpPr>
        <p:spPr>
          <a:xfrm>
            <a:off x="4610160" y="2782800"/>
            <a:ext cx="18367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Acheter un répondeur télépho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4816440" y="2023920"/>
            <a:ext cx="15667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Multiplier les points  d’éclai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1"/>
          <p:cNvSpPr/>
          <p:nvPr/>
        </p:nvSpPr>
        <p:spPr>
          <a:xfrm>
            <a:off x="324000" y="341280"/>
            <a:ext cx="604980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52600" indent="-427320">
              <a:lnSpc>
                <a:spcPct val="100000"/>
              </a:lnSpc>
              <a:spcBef>
                <a:spcPts val="2537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Rendre ses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sanitaires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 plus sû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123840">
              <a:spcBef>
                <a:spcPts val="1687"/>
              </a:spcBef>
              <a:tabLst>
                <a:tab algn="l" pos="0"/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2600" indent="-427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4" name="Picture 2" descr=""/>
          <p:cNvPicPr/>
          <p:nvPr/>
        </p:nvPicPr>
        <p:blipFill>
          <a:blip r:embed="rId1"/>
          <a:stretch/>
        </p:blipFill>
        <p:spPr>
          <a:xfrm>
            <a:off x="6427800" y="6261120"/>
            <a:ext cx="351000" cy="135000"/>
          </a:xfrm>
          <a:prstGeom prst="rect">
            <a:avLst/>
          </a:prstGeom>
          <a:ln w="0">
            <a:noFill/>
          </a:ln>
        </p:spPr>
      </p:pic>
      <p:sp>
        <p:nvSpPr>
          <p:cNvPr id="1215" name="Text Box 3"/>
          <p:cNvSpPr/>
          <p:nvPr/>
        </p:nvSpPr>
        <p:spPr>
          <a:xfrm>
            <a:off x="4726080" y="6288120"/>
            <a:ext cx="2097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janvier 2016 – Calyxis – Tous droits réservé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 Box 4"/>
          <p:cNvSpPr/>
          <p:nvPr/>
        </p:nvSpPr>
        <p:spPr>
          <a:xfrm>
            <a:off x="6107040" y="434988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B727E1-8D98-4C0A-BBF8-D5C689E8C882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7" name="Picture 5" descr=""/>
          <p:cNvPicPr/>
          <p:nvPr/>
        </p:nvPicPr>
        <p:blipFill>
          <a:blip r:embed="rId2"/>
          <a:stretch/>
        </p:blipFill>
        <p:spPr>
          <a:xfrm>
            <a:off x="277920" y="814320"/>
            <a:ext cx="682560" cy="831960"/>
          </a:xfrm>
          <a:prstGeom prst="rect">
            <a:avLst/>
          </a:prstGeom>
          <a:ln w="0">
            <a:noFill/>
          </a:ln>
        </p:spPr>
      </p:pic>
      <p:sp>
        <p:nvSpPr>
          <p:cNvPr id="1218" name="Text Box 6"/>
          <p:cNvSpPr/>
          <p:nvPr/>
        </p:nvSpPr>
        <p:spPr>
          <a:xfrm>
            <a:off x="476280" y="2341440"/>
            <a:ext cx="21607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Ins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des systèmes antidérap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Text Box 7"/>
          <p:cNvSpPr/>
          <p:nvPr/>
        </p:nvSpPr>
        <p:spPr>
          <a:xfrm>
            <a:off x="880920" y="3166920"/>
            <a:ext cx="13510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Bien aér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8"/>
          <p:cNvSpPr/>
          <p:nvPr/>
        </p:nvSpPr>
        <p:spPr>
          <a:xfrm>
            <a:off x="380880" y="1725480"/>
            <a:ext cx="2952720" cy="3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ménagements fac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Text Box 9"/>
          <p:cNvSpPr/>
          <p:nvPr/>
        </p:nvSpPr>
        <p:spPr>
          <a:xfrm>
            <a:off x="3676680" y="1133640"/>
            <a:ext cx="29163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vaux plus import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Text Box 10"/>
          <p:cNvSpPr/>
          <p:nvPr/>
        </p:nvSpPr>
        <p:spPr>
          <a:xfrm>
            <a:off x="3676680" y="1925640"/>
            <a:ext cx="272736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Inverser le sens d’ouvert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des por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11"/>
          <p:cNvSpPr/>
          <p:nvPr/>
        </p:nvSpPr>
        <p:spPr>
          <a:xfrm>
            <a:off x="4484520" y="2579760"/>
            <a:ext cx="134964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Choisir un éclairage adapt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4" name="Picture 12" descr=""/>
          <p:cNvPicPr/>
          <p:nvPr/>
        </p:nvPicPr>
        <p:blipFill>
          <a:blip r:embed="rId3"/>
          <a:stretch/>
        </p:blipFill>
        <p:spPr>
          <a:xfrm>
            <a:off x="5295960" y="3298680"/>
            <a:ext cx="1353960" cy="690840"/>
          </a:xfrm>
          <a:prstGeom prst="rect">
            <a:avLst/>
          </a:prstGeom>
          <a:ln w="0">
            <a:noFill/>
          </a:ln>
        </p:spPr>
      </p:pic>
      <p:sp>
        <p:nvSpPr>
          <p:cNvPr id="1225" name="Text Box 13"/>
          <p:cNvSpPr/>
          <p:nvPr/>
        </p:nvSpPr>
        <p:spPr>
          <a:xfrm>
            <a:off x="3430440" y="3363840"/>
            <a:ext cx="157176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Vérifi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a conformité électr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1"/>
          <p:cNvSpPr/>
          <p:nvPr/>
        </p:nvSpPr>
        <p:spPr>
          <a:xfrm>
            <a:off x="169920" y="870120"/>
            <a:ext cx="2539800" cy="561960"/>
          </a:xfrm>
          <a:prstGeom prst="rect">
            <a:avLst/>
          </a:prstGeom>
          <a:solidFill>
            <a:srgbClr val="c7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04840" indent="-204840">
              <a:spcBef>
                <a:spcPts val="1125"/>
              </a:spcBef>
              <a:tabLst>
                <a:tab algn="l" pos="0"/>
                <a:tab algn="l" pos="204840"/>
                <a:tab algn="l" pos="890640"/>
                <a:tab algn="l" pos="1576440"/>
                <a:tab algn="l" pos="2262240"/>
                <a:tab algn="l" pos="2948040"/>
                <a:tab algn="l" pos="3633840"/>
                <a:tab algn="l" pos="4319640"/>
                <a:tab algn="l" pos="5005440"/>
                <a:tab algn="l" pos="5691240"/>
                <a:tab algn="l" pos="6378480"/>
                <a:tab algn="l" pos="7064280"/>
                <a:tab algn="l" pos="775008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04840" indent="-204840" algn="ctr">
              <a:tabLst>
                <a:tab algn="l" pos="0"/>
                <a:tab algn="l" pos="204840"/>
                <a:tab algn="l" pos="890640"/>
                <a:tab algn="l" pos="1576440"/>
                <a:tab algn="l" pos="2262240"/>
                <a:tab algn="l" pos="2948040"/>
                <a:tab algn="l" pos="3633840"/>
                <a:tab algn="l" pos="4319640"/>
                <a:tab algn="l" pos="5005440"/>
                <a:tab algn="l" pos="5691240"/>
                <a:tab algn="l" pos="6378480"/>
                <a:tab algn="l" pos="7064280"/>
                <a:tab algn="l" pos="775008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4a568a"/>
                </a:solidFill>
                <a:latin typeface="Arial"/>
                <a:ea typeface="Arial"/>
              </a:rPr>
              <a:t>Eliminez les obstac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4840" indent="-204840">
              <a:spcBef>
                <a:spcPts val="1261"/>
              </a:spcBef>
              <a:tabLst>
                <a:tab algn="l" pos="0"/>
                <a:tab algn="l" pos="204840"/>
                <a:tab algn="l" pos="890640"/>
                <a:tab algn="l" pos="1576440"/>
                <a:tab algn="l" pos="2262240"/>
                <a:tab algn="l" pos="2948040"/>
                <a:tab algn="l" pos="3633840"/>
                <a:tab algn="l" pos="4319640"/>
                <a:tab algn="l" pos="5005440"/>
                <a:tab algn="l" pos="5691240"/>
                <a:tab algn="l" pos="6378480"/>
                <a:tab algn="l" pos="7064280"/>
                <a:tab algn="l" pos="775008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 Box 2"/>
          <p:cNvSpPr/>
          <p:nvPr/>
        </p:nvSpPr>
        <p:spPr>
          <a:xfrm>
            <a:off x="3160800" y="744480"/>
            <a:ext cx="3483000" cy="871560"/>
          </a:xfrm>
          <a:prstGeom prst="rect">
            <a:avLst/>
          </a:prstGeom>
          <a:solidFill>
            <a:srgbClr val="c7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1600" spc="-1" strike="noStrike">
                <a:solidFill>
                  <a:srgbClr val="4a568a"/>
                </a:solidFill>
                <a:latin typeface="Arial"/>
              </a:rPr>
              <a:t>Piles d’objets, meubles bas, poubelles, fils  et câbles  dans les  passages et escalie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 Box 3"/>
          <p:cNvSpPr/>
          <p:nvPr/>
        </p:nvSpPr>
        <p:spPr>
          <a:xfrm>
            <a:off x="3135240" y="1806480"/>
            <a:ext cx="3500640" cy="822600"/>
          </a:xfrm>
          <a:prstGeom prst="rect">
            <a:avLst/>
          </a:prstGeom>
          <a:solidFill>
            <a:srgbClr val="e9e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100080" indent="-98640" algn="just">
              <a:tabLst>
                <a:tab algn="l" pos="0"/>
                <a:tab algn="l" pos="10008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515600"/>
              </a:tabLst>
            </a:pPr>
            <a:r>
              <a:rPr b="1" lang="fr-FR" sz="1600" spc="-1" strike="noStrike">
                <a:solidFill>
                  <a:srgbClr val="4a568a"/>
                </a:solidFill>
                <a:latin typeface="Arial"/>
              </a:rPr>
              <a:t>Rampes, mains-courantes, barres d’appui, changements de niveau du sol identifiés,…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Rectangle 4"/>
          <p:cNvSpPr/>
          <p:nvPr/>
        </p:nvSpPr>
        <p:spPr>
          <a:xfrm>
            <a:off x="3135240" y="2813040"/>
            <a:ext cx="3508560" cy="768240"/>
          </a:xfrm>
          <a:prstGeom prst="rect">
            <a:avLst/>
          </a:prstGeom>
          <a:solidFill>
            <a:srgbClr val="c7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100080" indent="-98640" algn="just">
              <a:tabLst>
                <a:tab algn="l" pos="0"/>
                <a:tab algn="l" pos="10008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515600"/>
              </a:tabLst>
            </a:pPr>
            <a:r>
              <a:rPr b="1" lang="fr-FR" sz="1600" spc="-1" strike="noStrike">
                <a:solidFill>
                  <a:srgbClr val="4a568a"/>
                </a:solidFill>
                <a:latin typeface="Arial"/>
              </a:rPr>
              <a:t>Sols faciles à entretenir et non glissant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00080" indent="-98640" algn="just">
              <a:tabLst>
                <a:tab algn="l" pos="0"/>
                <a:tab algn="l" pos="10008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515600"/>
              </a:tabLst>
            </a:pPr>
            <a:r>
              <a:rPr b="1" lang="fr-FR" sz="1600" spc="-1" strike="noStrike">
                <a:solidFill>
                  <a:srgbClr val="4a568a"/>
                </a:solidFill>
                <a:latin typeface="Arial"/>
              </a:rPr>
              <a:t>Douche plutôt que baignoi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AutoShape 5"/>
          <p:cNvSpPr/>
          <p:nvPr/>
        </p:nvSpPr>
        <p:spPr>
          <a:xfrm>
            <a:off x="2746440" y="1027080"/>
            <a:ext cx="377640" cy="216000"/>
          </a:xfrm>
          <a:custGeom>
            <a:avLst/>
            <a:gdLst>
              <a:gd name="textAreaLeft" fmla="*/ 0 w 377640"/>
              <a:gd name="textAreaRight" fmla="*/ 378000 w 377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33" y="0"/>
                </a:lnTo>
                <a:lnTo>
                  <a:pt x="21600" y="10800"/>
                </a:lnTo>
                <a:lnTo>
                  <a:pt x="15433" y="21600"/>
                </a:lnTo>
                <a:lnTo>
                  <a:pt x="0" y="21600"/>
                </a:lnTo>
                <a:lnTo>
                  <a:pt x="6167" y="10800"/>
                </a:lnTo>
                <a:close/>
              </a:path>
            </a:pathLst>
          </a:custGeom>
          <a:solidFill>
            <a:srgbClr val="c7cce1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AutoShape 6"/>
          <p:cNvSpPr/>
          <p:nvPr/>
        </p:nvSpPr>
        <p:spPr>
          <a:xfrm>
            <a:off x="2684520" y="2201760"/>
            <a:ext cx="379440" cy="217440"/>
          </a:xfrm>
          <a:custGeom>
            <a:avLst/>
            <a:gdLst>
              <a:gd name="textAreaLeft" fmla="*/ 0 w 379440"/>
              <a:gd name="textAreaRight" fmla="*/ 379800 w 3794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19" y="0"/>
                </a:lnTo>
                <a:lnTo>
                  <a:pt x="21600" y="10800"/>
                </a:lnTo>
                <a:lnTo>
                  <a:pt x="15419" y="21600"/>
                </a:lnTo>
                <a:lnTo>
                  <a:pt x="0" y="21600"/>
                </a:lnTo>
                <a:lnTo>
                  <a:pt x="6181" y="10800"/>
                </a:lnTo>
                <a:close/>
              </a:path>
            </a:pathLst>
          </a:custGeom>
          <a:solidFill>
            <a:srgbClr val="c7cce1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7"/>
          <p:cNvSpPr/>
          <p:nvPr/>
        </p:nvSpPr>
        <p:spPr>
          <a:xfrm>
            <a:off x="189000" y="195120"/>
            <a:ext cx="667044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lvl="1" marL="429840" indent="-271440">
              <a:spcBef>
                <a:spcPts val="2537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452520"/>
                <a:tab algn="l" pos="1366920"/>
                <a:tab algn="l" pos="2281320"/>
                <a:tab algn="l" pos="3195720"/>
                <a:tab algn="l" pos="4110120"/>
                <a:tab algn="l" pos="5024520"/>
                <a:tab algn="l" pos="5938920"/>
                <a:tab algn="l" pos="6853320"/>
                <a:tab algn="l" pos="7767720"/>
                <a:tab algn="l" pos="8682120"/>
                <a:tab algn="l" pos="9596520"/>
                <a:tab algn="l" pos="10510920"/>
                <a:tab algn="l" pos="10515600"/>
              </a:tabLst>
            </a:pPr>
            <a:r>
              <a:rPr b="1" lang="fr-FR" sz="2400" spc="-1" strike="noStrike">
                <a:solidFill>
                  <a:srgbClr val="4a568a"/>
                </a:solidFill>
                <a:latin typeface="Arial"/>
              </a:rPr>
              <a:t>La prévention des chutes : 4 princi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Text Box 8"/>
          <p:cNvSpPr/>
          <p:nvPr/>
        </p:nvSpPr>
        <p:spPr>
          <a:xfrm>
            <a:off x="163440" y="1905120"/>
            <a:ext cx="2538360" cy="671400"/>
          </a:xfrm>
          <a:prstGeom prst="rect">
            <a:avLst/>
          </a:prstGeom>
          <a:solidFill>
            <a:srgbClr val="e9e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>
              <a:tabLst>
                <a:tab algn="l" pos="0"/>
                <a:tab algn="l" pos="212760"/>
                <a:tab algn="l" pos="898560"/>
                <a:tab algn="l" pos="1584360"/>
                <a:tab algn="l" pos="2270160"/>
                <a:tab algn="l" pos="2955960"/>
                <a:tab algn="l" pos="3641760"/>
                <a:tab algn="l" pos="4327560"/>
                <a:tab algn="l" pos="5014800"/>
                <a:tab algn="l" pos="5700600"/>
                <a:tab algn="l" pos="6386400"/>
                <a:tab algn="l" pos="7072200"/>
                <a:tab algn="l" pos="77580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ctr">
              <a:tabLst>
                <a:tab algn="l" pos="0"/>
                <a:tab algn="l" pos="212760"/>
                <a:tab algn="l" pos="898560"/>
                <a:tab algn="l" pos="1584360"/>
                <a:tab algn="l" pos="2270160"/>
                <a:tab algn="l" pos="2955960"/>
                <a:tab algn="l" pos="3641760"/>
                <a:tab algn="l" pos="4327560"/>
                <a:tab algn="l" pos="5014800"/>
                <a:tab algn="l" pos="5700600"/>
                <a:tab algn="l" pos="6386400"/>
                <a:tab algn="l" pos="7072200"/>
                <a:tab algn="l" pos="77580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4a568a"/>
                </a:solidFill>
                <a:latin typeface="Arial"/>
                <a:ea typeface="Arial"/>
              </a:rPr>
              <a:t>Prévoyez des points d’appu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>
              <a:tabLst>
                <a:tab algn="l" pos="0"/>
                <a:tab algn="l" pos="212760"/>
                <a:tab algn="l" pos="898560"/>
                <a:tab algn="l" pos="1584360"/>
                <a:tab algn="l" pos="2270160"/>
                <a:tab algn="l" pos="2955960"/>
                <a:tab algn="l" pos="3641760"/>
                <a:tab algn="l" pos="4327560"/>
                <a:tab algn="l" pos="5014800"/>
                <a:tab algn="l" pos="5700600"/>
                <a:tab algn="l" pos="6386400"/>
                <a:tab algn="l" pos="7072200"/>
                <a:tab algn="l" pos="77580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9"/>
          <p:cNvSpPr/>
          <p:nvPr/>
        </p:nvSpPr>
        <p:spPr>
          <a:xfrm>
            <a:off x="181080" y="2905200"/>
            <a:ext cx="2538360" cy="555480"/>
          </a:xfrm>
          <a:prstGeom prst="rect">
            <a:avLst/>
          </a:prstGeom>
          <a:solidFill>
            <a:srgbClr val="c7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100080" indent="-98640" algn="ctr">
              <a:tabLst>
                <a:tab algn="l" pos="0"/>
                <a:tab algn="l" pos="10008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515600"/>
              </a:tabLst>
            </a:pPr>
            <a:r>
              <a:rPr b="1" lang="fr-FR" sz="1800" spc="-1" strike="noStrike">
                <a:solidFill>
                  <a:srgbClr val="4a568a"/>
                </a:solidFill>
                <a:latin typeface="Arial"/>
              </a:rPr>
              <a:t>Eliminez les risques de gliss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10"/>
          <p:cNvSpPr/>
          <p:nvPr/>
        </p:nvSpPr>
        <p:spPr>
          <a:xfrm>
            <a:off x="184320" y="3754440"/>
            <a:ext cx="2533320" cy="568440"/>
          </a:xfrm>
          <a:prstGeom prst="rect">
            <a:avLst/>
          </a:prstGeom>
          <a:solidFill>
            <a:srgbClr val="e9e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>
              <a:tabLst>
                <a:tab algn="l" pos="0"/>
                <a:tab algn="l" pos="212760"/>
                <a:tab algn="l" pos="898560"/>
                <a:tab algn="l" pos="1584360"/>
                <a:tab algn="l" pos="2270160"/>
                <a:tab algn="l" pos="2955960"/>
                <a:tab algn="l" pos="3641760"/>
                <a:tab algn="l" pos="4327560"/>
                <a:tab algn="l" pos="5014800"/>
                <a:tab algn="l" pos="5700600"/>
                <a:tab algn="l" pos="6386400"/>
                <a:tab algn="l" pos="7072200"/>
                <a:tab algn="l" pos="77580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ctr">
              <a:tabLst>
                <a:tab algn="l" pos="0"/>
                <a:tab algn="l" pos="212760"/>
                <a:tab algn="l" pos="898560"/>
                <a:tab algn="l" pos="1584360"/>
                <a:tab algn="l" pos="2270160"/>
                <a:tab algn="l" pos="2955960"/>
                <a:tab algn="l" pos="3641760"/>
                <a:tab algn="l" pos="4327560"/>
                <a:tab algn="l" pos="5014800"/>
                <a:tab algn="l" pos="5700600"/>
                <a:tab algn="l" pos="6386400"/>
                <a:tab algn="l" pos="7072200"/>
                <a:tab algn="l" pos="77580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4a568a"/>
                </a:solidFill>
                <a:latin typeface="Arial"/>
                <a:ea typeface="Arial"/>
              </a:rPr>
              <a:t>Eclairez les endroits somb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>
              <a:tabLst>
                <a:tab algn="l" pos="0"/>
                <a:tab algn="l" pos="212760"/>
                <a:tab algn="l" pos="898560"/>
                <a:tab algn="l" pos="1584360"/>
                <a:tab algn="l" pos="2270160"/>
                <a:tab algn="l" pos="2955960"/>
                <a:tab algn="l" pos="3641760"/>
                <a:tab algn="l" pos="4327560"/>
                <a:tab algn="l" pos="5014800"/>
                <a:tab algn="l" pos="5700600"/>
                <a:tab algn="l" pos="6386400"/>
                <a:tab algn="l" pos="7072200"/>
                <a:tab algn="l" pos="77580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 Box 11"/>
          <p:cNvSpPr/>
          <p:nvPr/>
        </p:nvSpPr>
        <p:spPr>
          <a:xfrm>
            <a:off x="3151080" y="3733920"/>
            <a:ext cx="3492720" cy="608040"/>
          </a:xfrm>
          <a:prstGeom prst="rect">
            <a:avLst/>
          </a:prstGeom>
          <a:solidFill>
            <a:srgbClr val="e9e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1" marL="353880" algn="just">
              <a:tabLst>
                <a:tab algn="l" pos="0"/>
                <a:tab algn="l" pos="353880"/>
                <a:tab algn="l" pos="1268280"/>
                <a:tab algn="l" pos="2182680"/>
                <a:tab algn="l" pos="3097080"/>
                <a:tab algn="l" pos="4011480"/>
                <a:tab algn="l" pos="4925880"/>
                <a:tab algn="l" pos="5840280"/>
                <a:tab algn="l" pos="6754680"/>
                <a:tab algn="l" pos="7669080"/>
                <a:tab algn="l" pos="8583480"/>
                <a:tab algn="l" pos="9497880"/>
                <a:tab algn="l" pos="10412280"/>
                <a:tab algn="l" pos="105156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100080" indent="-98640" algn="just">
              <a:tabLst>
                <a:tab algn="l" pos="0"/>
                <a:tab algn="l" pos="353880"/>
                <a:tab algn="l" pos="1268280"/>
                <a:tab algn="l" pos="2182680"/>
                <a:tab algn="l" pos="3097080"/>
                <a:tab algn="l" pos="4011480"/>
                <a:tab algn="l" pos="4925880"/>
                <a:tab algn="l" pos="5840280"/>
                <a:tab algn="l" pos="6754680"/>
                <a:tab algn="l" pos="7669080"/>
                <a:tab algn="l" pos="8583480"/>
                <a:tab algn="l" pos="9497880"/>
                <a:tab algn="l" pos="10412280"/>
                <a:tab algn="l" pos="10515600"/>
              </a:tabLst>
            </a:pPr>
            <a:r>
              <a:rPr b="1" lang="fr-FR" sz="1600" spc="-1" strike="noStrike">
                <a:solidFill>
                  <a:srgbClr val="4a568a"/>
                </a:solidFill>
                <a:latin typeface="Arial"/>
              </a:rPr>
              <a:t>Eclairage naturel et ampoules adaptées aux lieux à éclair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AutoShape 12"/>
          <p:cNvSpPr/>
          <p:nvPr/>
        </p:nvSpPr>
        <p:spPr>
          <a:xfrm>
            <a:off x="2722680" y="2943360"/>
            <a:ext cx="377640" cy="215640"/>
          </a:xfrm>
          <a:custGeom>
            <a:avLst/>
            <a:gdLst>
              <a:gd name="textAreaLeft" fmla="*/ 0 w 377640"/>
              <a:gd name="textAreaRight" fmla="*/ 378000 w 37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33" y="0"/>
                </a:lnTo>
                <a:lnTo>
                  <a:pt x="21600" y="10800"/>
                </a:lnTo>
                <a:lnTo>
                  <a:pt x="15433" y="21600"/>
                </a:lnTo>
                <a:lnTo>
                  <a:pt x="0" y="21600"/>
                </a:lnTo>
                <a:lnTo>
                  <a:pt x="6167" y="10800"/>
                </a:lnTo>
                <a:close/>
              </a:path>
            </a:pathLst>
          </a:custGeom>
          <a:solidFill>
            <a:srgbClr val="c7cce1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AutoShape 13"/>
          <p:cNvSpPr/>
          <p:nvPr/>
        </p:nvSpPr>
        <p:spPr>
          <a:xfrm>
            <a:off x="2717640" y="3882960"/>
            <a:ext cx="378000" cy="214200"/>
          </a:xfrm>
          <a:custGeom>
            <a:avLst/>
            <a:gdLst>
              <a:gd name="textAreaLeft" fmla="*/ 0 w 378000"/>
              <a:gd name="textAreaRight" fmla="*/ 378360 w 378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lnTo>
                  <a:pt x="6147" y="10800"/>
                </a:lnTo>
                <a:close/>
              </a:path>
            </a:pathLst>
          </a:custGeom>
          <a:solidFill>
            <a:srgbClr val="c7cce1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 Box 15"/>
          <p:cNvSpPr/>
          <p:nvPr/>
        </p:nvSpPr>
        <p:spPr>
          <a:xfrm>
            <a:off x="6137280" y="4349880"/>
            <a:ext cx="378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037FBC-1C33-43B7-8D11-D7EFA866B238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 Box 16"/>
          <p:cNvSpPr/>
          <p:nvPr/>
        </p:nvSpPr>
        <p:spPr>
          <a:xfrm>
            <a:off x="2571840" y="4319640"/>
            <a:ext cx="18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Bien vieillir chez soi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ext Box 1"/>
          <p:cNvSpPr/>
          <p:nvPr/>
        </p:nvSpPr>
        <p:spPr>
          <a:xfrm>
            <a:off x="0" y="2201760"/>
            <a:ext cx="3608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66680" algn="ctr"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058400"/>
                <a:tab algn="l" pos="10515600"/>
              </a:tabLst>
            </a:pPr>
            <a:r>
              <a:rPr b="1" lang="fr-FR" sz="2700" spc="-1" strike="noStrike">
                <a:solidFill>
                  <a:srgbClr val="4a568a"/>
                </a:solidFill>
                <a:latin typeface="Arial"/>
              </a:rPr>
              <a:t>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</a:rPr>
              <a:t>Les aid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166680" algn="ctr"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2" name="Picture 2" descr=""/>
          <p:cNvPicPr/>
          <p:nvPr/>
        </p:nvPicPr>
        <p:blipFill>
          <a:blip r:embed="rId1"/>
          <a:stretch/>
        </p:blipFill>
        <p:spPr>
          <a:xfrm>
            <a:off x="6427800" y="6261120"/>
            <a:ext cx="351000" cy="135000"/>
          </a:xfrm>
          <a:prstGeom prst="rect">
            <a:avLst/>
          </a:prstGeom>
          <a:ln w="0">
            <a:noFill/>
          </a:ln>
        </p:spPr>
      </p:pic>
      <p:sp>
        <p:nvSpPr>
          <p:cNvPr id="1243" name="Text Box 3"/>
          <p:cNvSpPr/>
          <p:nvPr/>
        </p:nvSpPr>
        <p:spPr>
          <a:xfrm>
            <a:off x="4726080" y="6288120"/>
            <a:ext cx="2097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janvier 2016 – Calyxis – Tous droits réservé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Text Box 4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318692-55FB-4D6F-9D47-EE4C306DC2B8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2"/>
          <a:stretch/>
        </p:blipFill>
        <p:spPr>
          <a:xfrm>
            <a:off x="3608280" y="1790640"/>
            <a:ext cx="254340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Text Box 1"/>
          <p:cNvSpPr/>
          <p:nvPr/>
        </p:nvSpPr>
        <p:spPr>
          <a:xfrm>
            <a:off x="49320" y="378000"/>
            <a:ext cx="67593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52600" indent="-427320">
              <a:lnSpc>
                <a:spcPct val="100000"/>
              </a:lnSpc>
              <a:spcBef>
                <a:spcPts val="2537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Aides pour aménager votre logement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123840">
              <a:spcBef>
                <a:spcPts val="1687"/>
              </a:spcBef>
              <a:tabLst>
                <a:tab algn="l" pos="0"/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2600" indent="-427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Text Box 2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87671F-6D64-4ACD-935E-2417F6C86E99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8" name="Picture 3" descr=""/>
          <p:cNvPicPr/>
          <p:nvPr/>
        </p:nvPicPr>
        <p:blipFill>
          <a:blip r:embed="rId1"/>
          <a:stretch/>
        </p:blipFill>
        <p:spPr>
          <a:xfrm>
            <a:off x="404640" y="1282680"/>
            <a:ext cx="928800" cy="432000"/>
          </a:xfrm>
          <a:prstGeom prst="rect">
            <a:avLst/>
          </a:prstGeom>
          <a:ln w="0">
            <a:noFill/>
          </a:ln>
        </p:spPr>
      </p:pic>
      <p:sp>
        <p:nvSpPr>
          <p:cNvPr id="1249" name="Text Box 4"/>
          <p:cNvSpPr/>
          <p:nvPr/>
        </p:nvSpPr>
        <p:spPr>
          <a:xfrm>
            <a:off x="404640" y="1852560"/>
            <a:ext cx="62661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La MSA et la Carsat vous informent, vous orientent et peuvent vous accompagner pour une expertise technique et/ou un plan de financemen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0" name="Picture 5" descr=""/>
          <p:cNvPicPr/>
          <p:nvPr/>
        </p:nvPicPr>
        <p:blipFill>
          <a:blip r:embed="rId2"/>
          <a:stretch/>
        </p:blipFill>
        <p:spPr>
          <a:xfrm>
            <a:off x="1917720" y="1185840"/>
            <a:ext cx="912960" cy="6253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6" descr=""/>
          <p:cNvPicPr/>
          <p:nvPr/>
        </p:nvPicPr>
        <p:blipFill>
          <a:blip r:embed="rId3"/>
          <a:stretch/>
        </p:blipFill>
        <p:spPr>
          <a:xfrm>
            <a:off x="395280" y="3062160"/>
            <a:ext cx="755640" cy="648000"/>
          </a:xfrm>
          <a:prstGeom prst="rect">
            <a:avLst/>
          </a:prstGeom>
          <a:ln w="0">
            <a:noFill/>
          </a:ln>
        </p:spPr>
      </p:pic>
      <p:sp>
        <p:nvSpPr>
          <p:cNvPr id="1252" name="Text Box 7"/>
          <p:cNvSpPr/>
          <p:nvPr/>
        </p:nvSpPr>
        <p:spPr>
          <a:xfrm>
            <a:off x="1197000" y="2981160"/>
            <a:ext cx="5267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L’ANAH </a:t>
            </a:r>
            <a:r>
              <a:rPr b="1" lang="fr-FR" sz="1800" spc="-1" strike="noStrike">
                <a:solidFill>
                  <a:srgbClr val="252b45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(Agence Nationale de l’HAbitat) verse  « </a:t>
            </a:r>
            <a:r>
              <a:rPr b="1" lang="fr-FR" sz="1800" spc="-1" strike="noStrike">
                <a:solidFill>
                  <a:srgbClr val="002060"/>
                </a:solidFill>
                <a:latin typeface="Arial"/>
              </a:rPr>
              <a:t>Ma Prime Adapt’ » </a:t>
            </a:r>
            <a:r>
              <a:rPr b="0" lang="fr-FR" sz="1800" spc="-1" strike="noStrike">
                <a:solidFill>
                  <a:srgbClr val="002060"/>
                </a:solidFill>
                <a:latin typeface="Arial"/>
              </a:rPr>
              <a:t>qui aide à financer l’adaptation du logement à la perte d’autonomie, plus spécifiquement dans une optique de prévention des chu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Text Box 1"/>
          <p:cNvSpPr/>
          <p:nvPr/>
        </p:nvSpPr>
        <p:spPr>
          <a:xfrm>
            <a:off x="100080" y="873000"/>
            <a:ext cx="651672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52600" indent="-427320">
              <a:lnSpc>
                <a:spcPct val="100000"/>
              </a:lnSpc>
              <a:spcBef>
                <a:spcPts val="2537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Aide financière : Ma Prime Adapt'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123840">
              <a:spcBef>
                <a:spcPts val="1687"/>
              </a:spcBef>
              <a:tabLst>
                <a:tab algn="l" pos="0"/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2600" indent="-427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 Box 2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E771CC-7F48-48CC-B001-9B2AE200D0D2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Rectangle 3"/>
          <p:cNvSpPr/>
          <p:nvPr/>
        </p:nvSpPr>
        <p:spPr>
          <a:xfrm>
            <a:off x="241200" y="1413000"/>
            <a:ext cx="63770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Ma Prime Adapt' est notamment ouverte aux personnes âgées de 70 ans et plus, quel que soit leur GIR et aux personnes âgées de 60 à 69 ans en perte d'autonomie (relevant d’un GIR 1 à 6) et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sous conditions de ressource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travaux finançables par cette aide sont l’adaptation de la salle de bain, l’accessibilité du logement (rampe d’accès, monte escalier…), d’autres types de travaux y compris des travaux extérieurs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6" name="Picture 6" descr="Je trouve un conseiller France Rénov' | France Rénov'"/>
          <p:cNvPicPr/>
          <p:nvPr/>
        </p:nvPicPr>
        <p:blipFill>
          <a:blip r:embed="rId1"/>
          <a:stretch/>
        </p:blipFill>
        <p:spPr>
          <a:xfrm>
            <a:off x="4145040" y="3359160"/>
            <a:ext cx="2046240" cy="1160280"/>
          </a:xfrm>
          <a:prstGeom prst="rect">
            <a:avLst/>
          </a:prstGeom>
          <a:ln w="0">
            <a:noFill/>
          </a:ln>
        </p:spPr>
      </p:pic>
      <p:sp>
        <p:nvSpPr>
          <p:cNvPr id="1257" name="ZoneTexte 6"/>
          <p:cNvSpPr/>
          <p:nvPr/>
        </p:nvSpPr>
        <p:spPr>
          <a:xfrm>
            <a:off x="241200" y="3567240"/>
            <a:ext cx="3429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our en savoir plus : contacter un conseiller </a:t>
            </a:r>
            <a:r>
              <a:rPr b="0" lang="fr-FR" sz="15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rance Renov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Text Box 1"/>
          <p:cNvSpPr/>
          <p:nvPr/>
        </p:nvSpPr>
        <p:spPr>
          <a:xfrm>
            <a:off x="100080" y="873000"/>
            <a:ext cx="651672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552600" indent="-427320">
              <a:lnSpc>
                <a:spcPct val="100000"/>
              </a:lnSpc>
              <a:spcBef>
                <a:spcPts val="2537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Pour conclure ce modu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123840">
              <a:spcBef>
                <a:spcPts val="1687"/>
              </a:spcBef>
              <a:tabLst>
                <a:tab algn="l" pos="0"/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2600" indent="-427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785880"/>
                <a:tab algn="l" pos="1471680"/>
                <a:tab algn="l" pos="2158920"/>
                <a:tab algn="l" pos="2844720"/>
                <a:tab algn="l" pos="3530520"/>
                <a:tab algn="l" pos="4216320"/>
                <a:tab algn="l" pos="4902120"/>
                <a:tab algn="l" pos="5587920"/>
                <a:tab algn="l" pos="6273720"/>
                <a:tab algn="l" pos="6959520"/>
                <a:tab algn="l" pos="764712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2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369ABB-8567-48EE-B58E-686AFD036295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125280" y="1774800"/>
            <a:ext cx="3814920" cy="6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1800" spc="-1" strike="noStrike">
                <a:solidFill>
                  <a:srgbClr val="4a568a"/>
                </a:solidFill>
                <a:latin typeface="Arial"/>
              </a:rPr>
              <a:t>Comment avez-vous aménagé  votre logemen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1" name="Picture 4" descr=""/>
          <p:cNvPicPr/>
          <p:nvPr/>
        </p:nvPicPr>
        <p:blipFill>
          <a:blip r:embed="rId1"/>
          <a:stretch/>
        </p:blipFill>
        <p:spPr>
          <a:xfrm>
            <a:off x="4186080" y="1333440"/>
            <a:ext cx="2268720" cy="2662200"/>
          </a:xfrm>
          <a:prstGeom prst="rect">
            <a:avLst/>
          </a:prstGeom>
          <a:ln w="0">
            <a:noFill/>
          </a:ln>
        </p:spPr>
      </p:pic>
      <p:sp>
        <p:nvSpPr>
          <p:cNvPr id="1262" name="Rectangle 5"/>
          <p:cNvSpPr/>
          <p:nvPr/>
        </p:nvSpPr>
        <p:spPr>
          <a:xfrm>
            <a:off x="617400" y="3508200"/>
            <a:ext cx="39243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1500" spc="-1" strike="noStrike">
                <a:solidFill>
                  <a:srgbClr val="4a568a"/>
                </a:solidFill>
                <a:latin typeface="Arial"/>
              </a:rPr>
              <a:t>Ce que vous pensez pouvoir améliorer …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Text Box 1"/>
          <p:cNvSpPr/>
          <p:nvPr/>
        </p:nvSpPr>
        <p:spPr>
          <a:xfrm>
            <a:off x="0" y="2031840"/>
            <a:ext cx="37591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5000"/>
          </a:bodyPr>
          <a:p>
            <a:pPr lvl="1" marL="93960">
              <a:spcBef>
                <a:spcPts val="2537"/>
              </a:spcBef>
              <a:tabLst>
                <a:tab algn="l" pos="0"/>
                <a:tab algn="l" pos="125280"/>
                <a:tab algn="l" pos="1039680"/>
                <a:tab algn="l" pos="1954080"/>
                <a:tab algn="l" pos="2868480"/>
                <a:tab algn="l" pos="3782880"/>
                <a:tab algn="l" pos="4697280"/>
                <a:tab algn="l" pos="5611680"/>
                <a:tab algn="l" pos="6526080"/>
                <a:tab algn="l" pos="7440480"/>
                <a:tab algn="l" pos="8354880"/>
                <a:tab algn="l" pos="9269280"/>
                <a:tab algn="l" pos="10183680"/>
                <a:tab algn="l" pos="10515600"/>
              </a:tabLst>
            </a:pPr>
            <a:r>
              <a:rPr b="1" lang="fr-FR" sz="3000" spc="-1" strike="noStrike">
                <a:solidFill>
                  <a:srgbClr val="4a568a"/>
                </a:solidFill>
                <a:latin typeface="Arial"/>
              </a:rPr>
              <a:t>C’est la pause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</a:rPr>
              <a:t>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 Box 2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2C80DD-5887-436A-B0BB-3399A5503FD4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5" name="Picture 3" descr=""/>
          <p:cNvPicPr/>
          <p:nvPr/>
        </p:nvPicPr>
        <p:blipFill>
          <a:blip r:embed="rId1"/>
          <a:stretch/>
        </p:blipFill>
        <p:spPr>
          <a:xfrm>
            <a:off x="3049560" y="1598760"/>
            <a:ext cx="294012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Text Box 1"/>
          <p:cNvSpPr/>
          <p:nvPr/>
        </p:nvSpPr>
        <p:spPr>
          <a:xfrm>
            <a:off x="0" y="1760400"/>
            <a:ext cx="6697800" cy="12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166680" algn="ctr">
              <a:lnSpc>
                <a:spcPct val="90000"/>
              </a:lnSpc>
              <a:spcBef>
                <a:spcPts val="9062"/>
              </a:spcBef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058400"/>
                <a:tab algn="l" pos="10515600"/>
              </a:tabLst>
            </a:pPr>
            <a:r>
              <a:rPr b="1" lang="fr-FR" sz="3200" spc="-1" strike="noStrike">
                <a:solidFill>
                  <a:srgbClr val="4a568a"/>
                </a:solidFill>
                <a:latin typeface="Arial"/>
              </a:rPr>
              <a:t>Fin des Ateliers Vital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66680" algn="ctr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058400"/>
                <a:tab algn="l" pos="10515600"/>
              </a:tabLst>
            </a:pPr>
            <a:r>
              <a:rPr b="1" lang="fr-FR" sz="3200" spc="-1" strike="noStrike">
                <a:solidFill>
                  <a:srgbClr val="4a568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7" name="Picture 2" descr=""/>
          <p:cNvPicPr/>
          <p:nvPr/>
        </p:nvPicPr>
        <p:blipFill>
          <a:blip r:embed="rId1"/>
          <a:stretch/>
        </p:blipFill>
        <p:spPr>
          <a:xfrm>
            <a:off x="6427800" y="6261120"/>
            <a:ext cx="351000" cy="135000"/>
          </a:xfrm>
          <a:prstGeom prst="rect">
            <a:avLst/>
          </a:prstGeom>
          <a:ln w="0">
            <a:noFill/>
          </a:ln>
        </p:spPr>
      </p:pic>
      <p:sp>
        <p:nvSpPr>
          <p:cNvPr id="1268" name="Text Box 3"/>
          <p:cNvSpPr/>
          <p:nvPr/>
        </p:nvSpPr>
        <p:spPr>
          <a:xfrm>
            <a:off x="4726080" y="6288120"/>
            <a:ext cx="2097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janvier 2016 – Calyxis – Tous droits réservé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2BE9F2-E5B5-4CD3-95FC-B730FEF24099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1"/>
          <p:cNvSpPr/>
          <p:nvPr/>
        </p:nvSpPr>
        <p:spPr>
          <a:xfrm>
            <a:off x="322200" y="1392120"/>
            <a:ext cx="621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5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Module 6.1 – Un chez moi adapté, un chez moi adopté!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0" name="Picture 2" descr=""/>
          <p:cNvPicPr/>
          <p:nvPr/>
        </p:nvPicPr>
        <p:blipFill>
          <a:blip r:embed="rId1"/>
          <a:stretch/>
        </p:blipFill>
        <p:spPr>
          <a:xfrm>
            <a:off x="2062080" y="1855800"/>
            <a:ext cx="2683080" cy="1787400"/>
          </a:xfrm>
          <a:prstGeom prst="rect">
            <a:avLst/>
          </a:prstGeom>
          <a:ln w="0">
            <a:noFill/>
          </a:ln>
        </p:spPr>
      </p:pic>
      <p:sp>
        <p:nvSpPr>
          <p:cNvPr id="1141" name="Text Box 3"/>
          <p:cNvSpPr/>
          <p:nvPr/>
        </p:nvSpPr>
        <p:spPr>
          <a:xfrm>
            <a:off x="512640" y="844560"/>
            <a:ext cx="58341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1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Les Ateliers Vitalit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 Box 1"/>
          <p:cNvSpPr/>
          <p:nvPr/>
        </p:nvSpPr>
        <p:spPr>
          <a:xfrm>
            <a:off x="507960" y="411120"/>
            <a:ext cx="58309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Ateliers Vital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Text Box 3"/>
          <p:cNvSpPr/>
          <p:nvPr/>
        </p:nvSpPr>
        <p:spPr>
          <a:xfrm>
            <a:off x="117360" y="746280"/>
            <a:ext cx="4392720" cy="28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100" spc="-1" strike="noStrike">
                <a:solidFill>
                  <a:srgbClr val="4a568a"/>
                </a:solidFill>
                <a:latin typeface="Arial"/>
                <a:ea typeface="Arial"/>
              </a:rPr>
              <a:t>Programme des 6 modul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75"/>
              </a:spcBef>
              <a:buClr>
                <a:srgbClr val="4a568a"/>
              </a:buClr>
              <a:buFont typeface="Wingdings" charset="2"/>
              <a:buChar char="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75"/>
              </a:spcBef>
              <a:buClr>
                <a:srgbClr val="4a568a"/>
              </a:buClr>
              <a:buFont typeface="Wingdings" charset="2"/>
              <a:buChar char="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200" spc="-1" strike="noStrike">
                <a:solidFill>
                  <a:srgbClr val="4a568a"/>
                </a:solidFill>
                <a:latin typeface="Arial"/>
                <a:ea typeface="Arial"/>
              </a:rPr>
              <a:t>Module 1 : Mon âge face aux idées reç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75"/>
              </a:spcBef>
              <a:buClr>
                <a:srgbClr val="4a568a"/>
              </a:buClr>
              <a:buFont typeface="Wingdings" charset="2"/>
              <a:buChar char="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200" spc="-1" strike="noStrike">
                <a:solidFill>
                  <a:srgbClr val="4a568a"/>
                </a:solidFill>
                <a:latin typeface="Arial"/>
                <a:ea typeface="Arial"/>
              </a:rPr>
              <a:t>Module 2 : Ma santé : agir quand il est te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75"/>
              </a:spcBef>
              <a:buClr>
                <a:srgbClr val="4a568a"/>
              </a:buClr>
              <a:buFont typeface="Wingdings" charset="2"/>
              <a:buChar char="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200" spc="-1" strike="noStrike">
                <a:solidFill>
                  <a:srgbClr val="4a568a"/>
                </a:solidFill>
                <a:latin typeface="Arial"/>
                <a:ea typeface="Arial"/>
              </a:rPr>
              <a:t>Module 3 : Nutrition, la bonne attitu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75"/>
              </a:spcBef>
              <a:buClr>
                <a:srgbClr val="4a568a"/>
              </a:buClr>
              <a:buFont typeface="Wingdings" charset="2"/>
              <a:buChar char="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200" spc="-1" strike="noStrike">
                <a:solidFill>
                  <a:srgbClr val="4a568a"/>
                </a:solidFill>
                <a:latin typeface="Arial"/>
                <a:ea typeface="Arial"/>
              </a:rPr>
              <a:t>Module 4 : L’équilibre en bouge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75"/>
              </a:spcBef>
              <a:buClr>
                <a:srgbClr val="4a568a"/>
              </a:buClr>
              <a:buFont typeface="Wingdings" charset="2"/>
              <a:buChar char="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200" spc="-1" strike="noStrike">
                <a:solidFill>
                  <a:srgbClr val="4a568a"/>
                </a:solidFill>
                <a:latin typeface="Arial"/>
                <a:ea typeface="Arial"/>
              </a:rPr>
              <a:t>Module 5 : Bien dans sa tê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75"/>
              </a:spcBef>
              <a:buClr>
                <a:srgbClr val="4a568a"/>
              </a:buClr>
              <a:buFont typeface="Wingdings" charset="2"/>
              <a:buChar char="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200" spc="-1" strike="noStrike">
                <a:solidFill>
                  <a:srgbClr val="4a568a"/>
                </a:solidFill>
                <a:latin typeface="Arial"/>
                <a:ea typeface="Arial"/>
              </a:rPr>
              <a:t>Choisissez l’un des 2 thèmes 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803160" indent="-117360">
              <a:lnSpc>
                <a:spcPct val="100000"/>
              </a:lnSpc>
              <a:spcBef>
                <a:spcPts val="300"/>
              </a:spcBef>
              <a:buClr>
                <a:srgbClr val="4a568a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200" spc="-1" strike="noStrike">
                <a:solidFill>
                  <a:srgbClr val="4a568a"/>
                </a:solidFill>
                <a:latin typeface="Arial"/>
                <a:ea typeface="Arial"/>
              </a:rPr>
              <a:t>6.1 : Un chez moi adapté, un chez moi adopté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803160" indent="-117360">
              <a:lnSpc>
                <a:spcPct val="100000"/>
              </a:lnSpc>
              <a:spcBef>
                <a:spcPts val="300"/>
              </a:spcBef>
              <a:buClr>
                <a:srgbClr val="4a568a"/>
              </a:buClr>
              <a:buFont typeface="Arial"/>
              <a:buChar char="•"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200" spc="-1" strike="noStrike">
                <a:solidFill>
                  <a:srgbClr val="4a568a"/>
                </a:solidFill>
                <a:latin typeface="Arial"/>
                <a:ea typeface="Arial"/>
              </a:rPr>
              <a:t>6.2 : Vitalité et éclat pour soi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3640"/>
                <a:tab algn="l" pos="6859440"/>
                <a:tab algn="l" pos="754524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2" name="Picture 2" descr=""/>
          <p:cNvPicPr/>
          <p:nvPr/>
        </p:nvPicPr>
        <p:blipFill>
          <a:blip r:embed="rId1"/>
          <a:stretch/>
        </p:blipFill>
        <p:spPr>
          <a:xfrm>
            <a:off x="4297320" y="1236600"/>
            <a:ext cx="256212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1"/>
          <p:cNvSpPr/>
          <p:nvPr/>
        </p:nvSpPr>
        <p:spPr>
          <a:xfrm>
            <a:off x="351000" y="1274760"/>
            <a:ext cx="604980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31000"/>
          </a:bodyPr>
          <a:p>
            <a:pPr lvl="1" marL="51480" algn="ctr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058400"/>
                <a:tab algn="l" pos="10515600"/>
              </a:tabLst>
            </a:pPr>
            <a:r>
              <a:rPr b="1" lang="fr-FR" sz="300" spc="-1" strike="noStrike">
                <a:solidFill>
                  <a:srgbClr val="4a568a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a568a"/>
                </a:solidFill>
                <a:latin typeface="Arial"/>
              </a:rPr>
              <a:t>Nous sommes maintenant arrivés à la fin du program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480" algn="ctr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480" algn="ctr">
              <a:lnSpc>
                <a:spcPct val="80000"/>
              </a:lnSpc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480" algn="ctr">
              <a:lnSpc>
                <a:spcPct val="80000"/>
              </a:lnSpc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4a568a"/>
                </a:solidFill>
                <a:latin typeface="Arial"/>
              </a:rPr>
              <a:t>Avant de nous quitter, merci de prendre le temps de compléter le questionnaire de satisfaction. </a:t>
            </a:r>
            <a:r>
              <a:rPr b="1" lang="fr-FR" sz="2000" spc="-1" strike="noStrike">
                <a:solidFill>
                  <a:srgbClr val="4a568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80">
              <a:lnSpc>
                <a:spcPct val="80000"/>
              </a:lnSpc>
              <a:spcBef>
                <a:spcPts val="1899"/>
              </a:spcBef>
              <a:tabLst>
                <a:tab algn="l" pos="0"/>
                <a:tab algn="l" pos="479520"/>
                <a:tab algn="l" pos="1393920"/>
                <a:tab algn="l" pos="2308320"/>
                <a:tab algn="l" pos="3222720"/>
                <a:tab algn="l" pos="4137120"/>
                <a:tab algn="l" pos="5051520"/>
                <a:tab algn="l" pos="5965920"/>
                <a:tab algn="l" pos="6880320"/>
                <a:tab algn="l" pos="7794720"/>
                <a:tab algn="l" pos="8709120"/>
                <a:tab algn="l" pos="962352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4a568a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Picture 2" descr=""/>
          <p:cNvPicPr/>
          <p:nvPr/>
        </p:nvPicPr>
        <p:blipFill>
          <a:blip r:embed="rId1"/>
          <a:stretch/>
        </p:blipFill>
        <p:spPr>
          <a:xfrm>
            <a:off x="6427800" y="6261120"/>
            <a:ext cx="351000" cy="135000"/>
          </a:xfrm>
          <a:prstGeom prst="rect">
            <a:avLst/>
          </a:prstGeom>
          <a:ln w="0">
            <a:noFill/>
          </a:ln>
        </p:spPr>
      </p:pic>
      <p:sp>
        <p:nvSpPr>
          <p:cNvPr id="1275" name="Text Box 3"/>
          <p:cNvSpPr/>
          <p:nvPr/>
        </p:nvSpPr>
        <p:spPr>
          <a:xfrm>
            <a:off x="4726080" y="6288120"/>
            <a:ext cx="2097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janvier 2016 – Calyxis – Tous droits réservé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 Box 4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A66FA4-4D86-426D-9E53-29CDBBF40C7D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Text Box 2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90D5E3-804D-404E-9C15-0A44DD048982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8" name="Image 4" descr=""/>
          <p:cNvPicPr/>
          <p:nvPr/>
        </p:nvPicPr>
        <p:blipFill>
          <a:blip r:embed="rId1"/>
          <a:stretch/>
        </p:blipFill>
        <p:spPr>
          <a:xfrm>
            <a:off x="0" y="1928880"/>
            <a:ext cx="6837480" cy="103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Text Box 2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EAEE5-70E5-4211-B301-82818D7A7BC9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3"/>
          <p:cNvSpPr/>
          <p:nvPr/>
        </p:nvSpPr>
        <p:spPr>
          <a:xfrm>
            <a:off x="225360" y="339840"/>
            <a:ext cx="6391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2800" spc="-1" strike="noStrike">
                <a:solidFill>
                  <a:srgbClr val="919dca"/>
                </a:solidFill>
                <a:latin typeface="Arial"/>
              </a:rPr>
              <a:t>Objectif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2200" spc="-1" strike="noStrike">
                <a:solidFill>
                  <a:srgbClr val="4a568a"/>
                </a:solidFill>
                <a:latin typeface="Arial"/>
              </a:rPr>
              <a:t>Faire prendre conscience des risques de chute dans la mais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 Box 1"/>
          <p:cNvSpPr/>
          <p:nvPr/>
        </p:nvSpPr>
        <p:spPr>
          <a:xfrm>
            <a:off x="217440" y="2035080"/>
            <a:ext cx="639936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3960" indent="-284040" algn="ctr">
              <a:spcBef>
                <a:spcPts val="2625"/>
              </a:spcBef>
              <a:tabLst>
                <a:tab algn="l" pos="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0" lang="fr-FR" sz="2800" spc="-1" strike="noStrike">
                <a:solidFill>
                  <a:srgbClr val="919dca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919dca"/>
                </a:solidFill>
                <a:latin typeface="Arial"/>
              </a:rPr>
              <a:t>Programme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100"/>
              </a:spcBef>
              <a:buClr>
                <a:srgbClr val="4a568a"/>
              </a:buClr>
              <a:buFont typeface="Wingdings" charset="2"/>
              <a:buChar char=""/>
              <a:tabLst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fr-FR" sz="2200" spc="-1" strike="noStrike">
                <a:solidFill>
                  <a:srgbClr val="4a568a"/>
                </a:solidFill>
                <a:latin typeface="Arial"/>
              </a:rPr>
              <a:t>Les chutes : risques et préven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100"/>
              </a:spcBef>
              <a:buClr>
                <a:srgbClr val="4a568a"/>
              </a:buClr>
              <a:buFont typeface="Wingdings" charset="2"/>
              <a:buChar char=""/>
              <a:tabLst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fr-FR" sz="2200" spc="-1" strike="noStrike">
                <a:solidFill>
                  <a:srgbClr val="4a568a"/>
                </a:solidFill>
                <a:latin typeface="Arial"/>
              </a:rPr>
              <a:t>Les activités près de chez vo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100"/>
              </a:spcBef>
              <a:buClr>
                <a:srgbClr val="4a568a"/>
              </a:buClr>
              <a:buFont typeface="Wingdings" charset="2"/>
              <a:buChar char=""/>
              <a:tabLst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r>
              <a:rPr b="1" lang="fr-FR" sz="2200" spc="-1" strike="noStrike">
                <a:solidFill>
                  <a:srgbClr val="4a568a"/>
                </a:solidFill>
                <a:latin typeface="Arial"/>
              </a:rPr>
              <a:t>L’évalu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98480" indent="-341280">
              <a:spcBef>
                <a:spcPts val="1100"/>
              </a:spcBef>
              <a:tabLst>
                <a:tab algn="l" pos="0"/>
                <a:tab algn="l" pos="1092240"/>
                <a:tab algn="l" pos="2006640"/>
                <a:tab algn="l" pos="2921040"/>
                <a:tab algn="l" pos="3835440"/>
                <a:tab algn="l" pos="4749840"/>
                <a:tab algn="l" pos="5664240"/>
                <a:tab algn="l" pos="6578640"/>
                <a:tab algn="l" pos="7493040"/>
                <a:tab algn="l" pos="8407440"/>
                <a:tab algn="l" pos="9321840"/>
                <a:tab algn="l" pos="1023624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1"/>
          <p:cNvSpPr/>
          <p:nvPr/>
        </p:nvSpPr>
        <p:spPr>
          <a:xfrm>
            <a:off x="324000" y="844560"/>
            <a:ext cx="6049800" cy="12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3840" algn="ctr">
              <a:spcBef>
                <a:spcPts val="2537"/>
              </a:spcBef>
              <a:tabLst>
                <a:tab algn="l" pos="0"/>
                <a:tab algn="l" pos="603360"/>
                <a:tab algn="l" pos="1289160"/>
                <a:tab algn="l" pos="1974960"/>
                <a:tab algn="l" pos="2660760"/>
                <a:tab algn="l" pos="3346560"/>
                <a:tab algn="l" pos="4032360"/>
                <a:tab algn="l" pos="4719600"/>
                <a:tab algn="l" pos="5405400"/>
                <a:tab algn="l" pos="6091200"/>
                <a:tab algn="l" pos="6777000"/>
                <a:tab algn="l" pos="74628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«Devine comment c’est arrivé»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123840" algn="ctr">
              <a:spcBef>
                <a:spcPts val="2537"/>
              </a:spcBef>
              <a:tabLst>
                <a:tab algn="l" pos="0"/>
                <a:tab algn="l" pos="603360"/>
                <a:tab algn="l" pos="1289160"/>
                <a:tab algn="l" pos="1974960"/>
                <a:tab algn="l" pos="2660760"/>
                <a:tab algn="l" pos="3346560"/>
                <a:tab algn="l" pos="4032360"/>
                <a:tab algn="l" pos="4719600"/>
                <a:tab algn="l" pos="5405400"/>
                <a:tab algn="l" pos="6091200"/>
                <a:tab algn="l" pos="6777000"/>
                <a:tab algn="l" pos="74628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Le jeu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123840">
              <a:spcBef>
                <a:spcPts val="1976"/>
              </a:spcBef>
              <a:tabLst>
                <a:tab algn="l" pos="0"/>
                <a:tab algn="l" pos="603360"/>
                <a:tab algn="l" pos="1289160"/>
                <a:tab algn="l" pos="1974960"/>
                <a:tab algn="l" pos="2660760"/>
                <a:tab algn="l" pos="3346560"/>
                <a:tab algn="l" pos="4032360"/>
                <a:tab algn="l" pos="4719600"/>
                <a:tab algn="l" pos="5405400"/>
                <a:tab algn="l" pos="6091200"/>
                <a:tab algn="l" pos="6777000"/>
                <a:tab algn="l" pos="74628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23840">
              <a:spcBef>
                <a:spcPts val="1976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603360"/>
                <a:tab algn="l" pos="1289160"/>
                <a:tab algn="l" pos="1974960"/>
                <a:tab algn="l" pos="2660760"/>
                <a:tab algn="l" pos="3346560"/>
                <a:tab algn="l" pos="4032360"/>
                <a:tab algn="l" pos="4719600"/>
                <a:tab algn="l" pos="5405400"/>
                <a:tab algn="l" pos="6091200"/>
                <a:tab algn="l" pos="6777000"/>
                <a:tab algn="l" pos="74628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100" spc="-1" strike="noStrike">
                <a:solidFill>
                  <a:srgbClr val="4a568a"/>
                </a:solidFill>
                <a:latin typeface="Arial"/>
                <a:ea typeface="Arial"/>
              </a:rPr>
              <a:t>En groupe de 3 ou 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23840">
              <a:spcBef>
                <a:spcPts val="1976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603360"/>
                <a:tab algn="l" pos="1289160"/>
                <a:tab algn="l" pos="1974960"/>
                <a:tab algn="l" pos="2660760"/>
                <a:tab algn="l" pos="3346560"/>
                <a:tab algn="l" pos="4032360"/>
                <a:tab algn="l" pos="4719600"/>
                <a:tab algn="l" pos="5405400"/>
                <a:tab algn="l" pos="6091200"/>
                <a:tab algn="l" pos="6777000"/>
                <a:tab algn="l" pos="74628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100" spc="-1" strike="noStrike">
                <a:solidFill>
                  <a:srgbClr val="4a568a"/>
                </a:solidFill>
                <a:latin typeface="Arial"/>
                <a:ea typeface="Arial"/>
              </a:rPr>
              <a:t>Créez une histoire de chut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23840">
              <a:spcBef>
                <a:spcPts val="1976"/>
              </a:spcBef>
              <a:tabLst>
                <a:tab algn="l" pos="0"/>
                <a:tab algn="l" pos="603360"/>
                <a:tab algn="l" pos="1289160"/>
                <a:tab algn="l" pos="1974960"/>
                <a:tab algn="l" pos="2660760"/>
                <a:tab algn="l" pos="3346560"/>
                <a:tab algn="l" pos="4032360"/>
                <a:tab algn="l" pos="4719600"/>
                <a:tab algn="l" pos="5405400"/>
                <a:tab algn="l" pos="6091200"/>
                <a:tab algn="l" pos="6777000"/>
                <a:tab algn="l" pos="74628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 Box 2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6A72A4-65FB-4D16-A0DB-2F0C0A0A184D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Text Box 1"/>
          <p:cNvSpPr/>
          <p:nvPr/>
        </p:nvSpPr>
        <p:spPr>
          <a:xfrm>
            <a:off x="372960" y="1112760"/>
            <a:ext cx="6050160" cy="28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66680">
              <a:spcBef>
                <a:spcPts val="1976"/>
              </a:spcBef>
              <a:tabLst>
                <a:tab algn="l" pos="0"/>
                <a:tab algn="l" pos="804960"/>
                <a:tab algn="l" pos="1719360"/>
                <a:tab algn="l" pos="2633760"/>
                <a:tab algn="l" pos="3548160"/>
                <a:tab algn="l" pos="4462560"/>
                <a:tab algn="l" pos="5376960"/>
                <a:tab algn="l" pos="6291360"/>
                <a:tab algn="l" pos="7205760"/>
                <a:tab algn="l" pos="8120160"/>
                <a:tab algn="l" pos="9034560"/>
                <a:tab algn="l" pos="99489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66680">
              <a:spcBef>
                <a:spcPts val="1976"/>
              </a:spcBef>
              <a:tabLst>
                <a:tab algn="l" pos="0"/>
                <a:tab algn="l" pos="804960"/>
                <a:tab algn="l" pos="1719360"/>
                <a:tab algn="l" pos="2633760"/>
                <a:tab algn="l" pos="3548160"/>
                <a:tab algn="l" pos="4462560"/>
                <a:tab algn="l" pos="5376960"/>
                <a:tab algn="l" pos="6291360"/>
                <a:tab algn="l" pos="7205760"/>
                <a:tab algn="l" pos="8120160"/>
                <a:tab algn="l" pos="9034560"/>
                <a:tab algn="l" pos="99489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98320" indent="-158760">
              <a:spcBef>
                <a:spcPts val="1049"/>
              </a:spcBef>
              <a:tabLst>
                <a:tab algn="l" pos="0"/>
                <a:tab algn="l" pos="804960"/>
                <a:tab algn="l" pos="1719360"/>
                <a:tab algn="l" pos="2633760"/>
                <a:tab algn="l" pos="3548160"/>
                <a:tab algn="l" pos="4462560"/>
                <a:tab algn="l" pos="5376960"/>
                <a:tab algn="l" pos="6291360"/>
                <a:tab algn="l" pos="7205760"/>
                <a:tab algn="l" pos="8120160"/>
                <a:tab algn="l" pos="9034560"/>
                <a:tab algn="l" pos="9948960"/>
                <a:tab algn="l" pos="10058400"/>
                <a:tab algn="l" pos="105156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 Box 2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14B407-4A41-4C20-89CF-A83005B427F2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9" name=""/>
          <p:cNvGraphicFramePr/>
          <p:nvPr/>
        </p:nvGraphicFramePr>
        <p:xfrm>
          <a:off x="34920" y="1044720"/>
          <a:ext cx="6667560" cy="2774880"/>
        </p:xfrm>
        <a:graphic>
          <a:graphicData uri="http://schemas.openxmlformats.org/drawingml/2006/table">
            <a:tbl>
              <a:tblPr/>
              <a:tblGrid>
                <a:gridCol w="917640"/>
                <a:gridCol w="969840"/>
                <a:gridCol w="811440"/>
                <a:gridCol w="1081080"/>
                <a:gridCol w="1403280"/>
                <a:gridCol w="1484280"/>
              </a:tblGrid>
              <a:tr h="76968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éno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è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ément déclenche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ément perturbateu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</a:tr>
              <a:tr h="4622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dfec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dfec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dfec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dfec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dfec"/>
                    </a:solidFill>
                  </a:tcPr>
                </a:tc>
              </a:tr>
              <a:tr h="51408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f6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f6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f6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f6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f6"/>
                    </a:solidFill>
                  </a:tcPr>
                </a:tc>
              </a:tr>
              <a:tr h="5144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dfec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dfec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dfec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dfec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dfec"/>
                    </a:solidFill>
                  </a:tcPr>
                </a:tc>
              </a:tr>
              <a:tr h="5144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f6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f6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f6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f6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1"/>
          <p:cNvSpPr/>
          <p:nvPr/>
        </p:nvSpPr>
        <p:spPr>
          <a:xfrm>
            <a:off x="471600" y="849240"/>
            <a:ext cx="59166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569880" indent="-569880">
              <a:lnSpc>
                <a:spcPct val="85000"/>
              </a:lnSpc>
              <a:buClr>
                <a:srgbClr val="919dca"/>
              </a:buClr>
              <a:buFont typeface="Wingdings" charset="2"/>
              <a:buChar char="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</a:tabLst>
            </a:pPr>
            <a:r>
              <a:rPr b="1" lang="fr-FR" sz="2700" spc="-1" strike="noStrike">
                <a:solidFill>
                  <a:srgbClr val="919dca"/>
                </a:solidFill>
                <a:latin typeface="Arial"/>
              </a:rPr>
              <a:t>Un exemp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4000" y="1933560"/>
          <a:ext cx="6597720" cy="660240"/>
        </p:xfrm>
        <a:graphic>
          <a:graphicData uri="http://schemas.openxmlformats.org/drawingml/2006/table">
            <a:tbl>
              <a:tblPr/>
              <a:tblGrid>
                <a:gridCol w="906480"/>
                <a:gridCol w="977760"/>
                <a:gridCol w="1100160"/>
                <a:gridCol w="1266840"/>
                <a:gridCol w="1135080"/>
                <a:gridCol w="1211400"/>
              </a:tblGrid>
              <a:tr h="66024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t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is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it une vinaigret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ant le déjeu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 téléph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n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l gliss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2" name=""/>
          <p:cNvGraphicFramePr/>
          <p:nvPr/>
        </p:nvGraphicFramePr>
        <p:xfrm>
          <a:off x="57240" y="1273320"/>
          <a:ext cx="6607080" cy="577800"/>
        </p:xfrm>
        <a:graphic>
          <a:graphicData uri="http://schemas.openxmlformats.org/drawingml/2006/table">
            <a:tbl>
              <a:tblPr/>
              <a:tblGrid>
                <a:gridCol w="917640"/>
                <a:gridCol w="944280"/>
                <a:gridCol w="1078200"/>
                <a:gridCol w="1350720"/>
                <a:gridCol w="1136880"/>
                <a:gridCol w="1179360"/>
              </a:tblGrid>
              <a:tr h="577800"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én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iè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ément déclenche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lément perturbate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8520" marR="3852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19dca"/>
                    </a:solidFill>
                  </a:tcPr>
                </a:tc>
              </a:tr>
            </a:tbl>
          </a:graphicData>
        </a:graphic>
      </p:graphicFrame>
      <p:sp>
        <p:nvSpPr>
          <p:cNvPr id="1153" name="Text Box 54"/>
          <p:cNvSpPr/>
          <p:nvPr/>
        </p:nvSpPr>
        <p:spPr>
          <a:xfrm>
            <a:off x="76320" y="2577960"/>
            <a:ext cx="65754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’histoire à mimer: 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« Dans sa cuisine, Martine fait une vinaigrette avant le déjeuner et le téléphone sonne. Comme elle était en train de penser à son petit-fils qui allait bientôt naître, elle sursaute et sa bouteille d’huile se renverse. Elle court répondre au téléphone; son petit-fils est né! Super contente, elle retourne à la cuisine et glisse sur la flaque d’huile… 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1"/>
          <p:cNvSpPr/>
          <p:nvPr/>
        </p:nvSpPr>
        <p:spPr>
          <a:xfrm>
            <a:off x="193680" y="1847880"/>
            <a:ext cx="2732040" cy="561960"/>
          </a:xfrm>
          <a:prstGeom prst="rect">
            <a:avLst/>
          </a:prstGeom>
          <a:solidFill>
            <a:srgbClr val="c7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72880" indent="-272880">
              <a:spcBef>
                <a:spcPts val="11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82600"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515600"/>
              </a:tabLst>
            </a:pPr>
            <a:r>
              <a:rPr b="1" lang="fr-FR" sz="1000" spc="-1" strike="noStrike">
                <a:solidFill>
                  <a:srgbClr val="4a568a"/>
                </a:solidFill>
                <a:latin typeface="Arial"/>
              </a:rPr>
              <a:t>Des obstac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986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2"/>
          <p:cNvSpPr/>
          <p:nvPr/>
        </p:nvSpPr>
        <p:spPr>
          <a:xfrm>
            <a:off x="3949560" y="1798560"/>
            <a:ext cx="2700360" cy="561960"/>
          </a:xfrm>
          <a:prstGeom prst="rect">
            <a:avLst/>
          </a:prstGeom>
          <a:solidFill>
            <a:srgbClr val="c7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35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4a568a"/>
                </a:solidFill>
                <a:latin typeface="Arial"/>
              </a:rPr>
              <a:t>Piles de livres, meubles bas, poubelles, fils électriques… principaleme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352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800" spc="-1" strike="noStrike">
                <a:solidFill>
                  <a:srgbClr val="4a568a"/>
                </a:solidFill>
                <a:latin typeface="Arial"/>
              </a:rPr>
              <a:t>dans les zones de passage et les escalier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 Box 3"/>
          <p:cNvSpPr/>
          <p:nvPr/>
        </p:nvSpPr>
        <p:spPr>
          <a:xfrm>
            <a:off x="3949560" y="2317680"/>
            <a:ext cx="2694240" cy="563760"/>
          </a:xfrm>
          <a:prstGeom prst="rect">
            <a:avLst/>
          </a:prstGeom>
          <a:solidFill>
            <a:srgbClr val="e9e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1" marL="352440" algn="ctr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515600"/>
              </a:tabLst>
            </a:pPr>
            <a:r>
              <a:rPr b="1" lang="fr-FR" sz="800" spc="-1" strike="noStrike">
                <a:solidFill>
                  <a:srgbClr val="4a568a"/>
                </a:solidFill>
                <a:latin typeface="Arial"/>
              </a:rPr>
              <a:t>Rampes, mains-courantes, barres d’appui,… 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3970440" y="2881440"/>
            <a:ext cx="2673360" cy="609480"/>
          </a:xfrm>
          <a:prstGeom prst="rect">
            <a:avLst/>
          </a:prstGeom>
          <a:solidFill>
            <a:srgbClr val="c7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1" marL="352440" algn="ctr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515600"/>
              </a:tabLst>
            </a:pPr>
            <a:r>
              <a:rPr b="1" lang="fr-FR" sz="800" spc="-1" strike="noStrike">
                <a:solidFill>
                  <a:srgbClr val="4a568a"/>
                </a:solidFill>
                <a:latin typeface="Arial"/>
              </a:rPr>
              <a:t>Tapis, carpettes, flaques d’huile ou d’eau, salissures…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352440" algn="ctr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515600"/>
              </a:tabLst>
            </a:pPr>
            <a:r>
              <a:rPr b="1" lang="fr-FR" sz="800" spc="-1" strike="noStrike">
                <a:solidFill>
                  <a:srgbClr val="4a568a"/>
                </a:solidFill>
                <a:latin typeface="Arial"/>
              </a:rPr>
              <a:t>Sortie de baignoire…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AutoShape 5"/>
          <p:cNvSpPr/>
          <p:nvPr/>
        </p:nvSpPr>
        <p:spPr>
          <a:xfrm>
            <a:off x="3219480" y="2031840"/>
            <a:ext cx="377640" cy="216000"/>
          </a:xfrm>
          <a:custGeom>
            <a:avLst/>
            <a:gdLst>
              <a:gd name="textAreaLeft" fmla="*/ 0 w 377640"/>
              <a:gd name="textAreaRight" fmla="*/ 378000 w 377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99" y="0"/>
                </a:lnTo>
                <a:lnTo>
                  <a:pt x="21600" y="10800"/>
                </a:lnTo>
                <a:lnTo>
                  <a:pt x="15399" y="21600"/>
                </a:lnTo>
                <a:lnTo>
                  <a:pt x="0" y="21600"/>
                </a:lnTo>
                <a:lnTo>
                  <a:pt x="6201" y="10800"/>
                </a:lnTo>
                <a:close/>
              </a:path>
            </a:pathLst>
          </a:custGeom>
          <a:solidFill>
            <a:srgbClr val="c7cce1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AutoShape 6"/>
          <p:cNvSpPr/>
          <p:nvPr/>
        </p:nvSpPr>
        <p:spPr>
          <a:xfrm>
            <a:off x="3219480" y="2571840"/>
            <a:ext cx="377640" cy="215640"/>
          </a:xfrm>
          <a:custGeom>
            <a:avLst/>
            <a:gdLst>
              <a:gd name="textAreaLeft" fmla="*/ 0 w 377640"/>
              <a:gd name="textAreaRight" fmla="*/ 378000 w 37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33" y="0"/>
                </a:lnTo>
                <a:lnTo>
                  <a:pt x="21600" y="10800"/>
                </a:lnTo>
                <a:lnTo>
                  <a:pt x="15433" y="21600"/>
                </a:lnTo>
                <a:lnTo>
                  <a:pt x="0" y="21600"/>
                </a:lnTo>
                <a:lnTo>
                  <a:pt x="6167" y="10800"/>
                </a:lnTo>
                <a:close/>
              </a:path>
            </a:pathLst>
          </a:custGeom>
          <a:solidFill>
            <a:srgbClr val="c7cce1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Text Box 7"/>
          <p:cNvSpPr/>
          <p:nvPr/>
        </p:nvSpPr>
        <p:spPr>
          <a:xfrm>
            <a:off x="189000" y="1058760"/>
            <a:ext cx="648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lvl="1" marL="583920" indent="-478440">
              <a:spcBef>
                <a:spcPts val="2537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695160"/>
                <a:tab algn="l" pos="1609560"/>
                <a:tab algn="l" pos="2523960"/>
                <a:tab algn="l" pos="3438360"/>
                <a:tab algn="l" pos="4352760"/>
                <a:tab algn="l" pos="5267160"/>
                <a:tab algn="l" pos="6181560"/>
                <a:tab algn="l" pos="7095960"/>
                <a:tab algn="l" pos="8010360"/>
                <a:tab algn="l" pos="8924760"/>
                <a:tab algn="l" pos="9839160"/>
                <a:tab algn="l" pos="10753560"/>
              </a:tabLst>
            </a:pPr>
            <a:r>
              <a:rPr b="1" lang="fr-FR" sz="2700" spc="-1" strike="noStrike">
                <a:solidFill>
                  <a:srgbClr val="4a568a"/>
                </a:solidFill>
                <a:latin typeface="Arial"/>
              </a:rPr>
              <a:t>Les éléments perturbateur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Text Box 8"/>
          <p:cNvSpPr/>
          <p:nvPr/>
        </p:nvSpPr>
        <p:spPr>
          <a:xfrm>
            <a:off x="193680" y="2401920"/>
            <a:ext cx="2732040" cy="531720"/>
          </a:xfrm>
          <a:prstGeom prst="rect">
            <a:avLst/>
          </a:prstGeom>
          <a:solidFill>
            <a:srgbClr val="e9e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82600" indent="-282600">
              <a:tabLst>
                <a:tab algn="l" pos="0"/>
                <a:tab algn="l" pos="282600"/>
                <a:tab algn="l" pos="1197000"/>
                <a:tab algn="l" pos="2111400"/>
                <a:tab algn="l" pos="3025800"/>
                <a:tab algn="l" pos="3940200"/>
                <a:tab algn="l" pos="4854600"/>
                <a:tab algn="l" pos="5769000"/>
                <a:tab algn="l" pos="6683400"/>
                <a:tab algn="l" pos="7597800"/>
                <a:tab algn="l" pos="8512200"/>
                <a:tab algn="l" pos="9426600"/>
                <a:tab algn="l" pos="103410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82600"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282600"/>
                <a:tab algn="l" pos="1197000"/>
                <a:tab algn="l" pos="2111400"/>
                <a:tab algn="l" pos="3025800"/>
                <a:tab algn="l" pos="3940200"/>
                <a:tab algn="l" pos="4854600"/>
                <a:tab algn="l" pos="5769000"/>
                <a:tab algn="l" pos="6683400"/>
                <a:tab algn="l" pos="7597800"/>
                <a:tab algn="l" pos="8512200"/>
                <a:tab algn="l" pos="9426600"/>
                <a:tab algn="l" pos="10341000"/>
                <a:tab algn="l" pos="10515600"/>
              </a:tabLst>
            </a:pPr>
            <a:r>
              <a:rPr b="1" lang="fr-FR" sz="1000" spc="-1" strike="noStrike">
                <a:solidFill>
                  <a:srgbClr val="4a568a"/>
                </a:solidFill>
                <a:latin typeface="Arial"/>
              </a:rPr>
              <a:t>Des points d’appu</a:t>
            </a:r>
            <a:r>
              <a:rPr b="1" lang="fr-FR" sz="1100" spc="-1" strike="noStrike">
                <a:solidFill>
                  <a:srgbClr val="4a568a"/>
                </a:solidFill>
                <a:latin typeface="Arial"/>
              </a:rPr>
              <a:t>i inexistant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9"/>
          <p:cNvSpPr/>
          <p:nvPr/>
        </p:nvSpPr>
        <p:spPr>
          <a:xfrm>
            <a:off x="193680" y="2935440"/>
            <a:ext cx="2732040" cy="555480"/>
          </a:xfrm>
          <a:prstGeom prst="rect">
            <a:avLst/>
          </a:prstGeom>
          <a:solidFill>
            <a:srgbClr val="c7c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1" marL="636480" indent="-282600"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636480"/>
                <a:tab algn="l" pos="1550880"/>
                <a:tab algn="l" pos="2465280"/>
                <a:tab algn="l" pos="3379680"/>
                <a:tab algn="l" pos="4294080"/>
                <a:tab algn="l" pos="5208480"/>
                <a:tab algn="l" pos="6122880"/>
                <a:tab algn="l" pos="7037280"/>
                <a:tab algn="l" pos="7951680"/>
                <a:tab algn="l" pos="8866080"/>
                <a:tab algn="l" pos="9780480"/>
                <a:tab algn="l" pos="10694880"/>
              </a:tabLst>
            </a:pPr>
            <a:r>
              <a:rPr b="1" lang="fr-FR" sz="1000" spc="-1" strike="noStrike">
                <a:solidFill>
                  <a:srgbClr val="4a568a"/>
                </a:solidFill>
                <a:latin typeface="Arial"/>
              </a:rPr>
              <a:t>Des risques de glissad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Text Box 10"/>
          <p:cNvSpPr/>
          <p:nvPr/>
        </p:nvSpPr>
        <p:spPr>
          <a:xfrm>
            <a:off x="193680" y="3462480"/>
            <a:ext cx="2732040" cy="568080"/>
          </a:xfrm>
          <a:prstGeom prst="rect">
            <a:avLst/>
          </a:prstGeom>
          <a:solidFill>
            <a:srgbClr val="e9e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0960" indent="-210960">
              <a:tabLst>
                <a:tab algn="l" pos="0"/>
                <a:tab algn="l" pos="210960"/>
                <a:tab algn="l" pos="896760"/>
                <a:tab algn="l" pos="1582560"/>
                <a:tab algn="l" pos="2268360"/>
                <a:tab algn="l" pos="2954160"/>
                <a:tab algn="l" pos="3641760"/>
                <a:tab algn="l" pos="4327560"/>
                <a:tab algn="l" pos="5013360"/>
                <a:tab algn="l" pos="5699160"/>
                <a:tab algn="l" pos="6384960"/>
                <a:tab algn="l" pos="7070760"/>
                <a:tab algn="l" pos="775656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10960">
              <a:lnSpc>
                <a:spcPct val="100000"/>
              </a:lnSpc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210960"/>
                <a:tab algn="l" pos="896760"/>
                <a:tab algn="l" pos="1582560"/>
                <a:tab algn="l" pos="2268360"/>
                <a:tab algn="l" pos="2954160"/>
                <a:tab algn="l" pos="3641760"/>
                <a:tab algn="l" pos="4327560"/>
                <a:tab algn="l" pos="5013360"/>
                <a:tab algn="l" pos="5699160"/>
                <a:tab algn="l" pos="6384960"/>
                <a:tab algn="l" pos="7070760"/>
                <a:tab algn="l" pos="775656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1000" spc="-1" strike="noStrike">
                <a:solidFill>
                  <a:srgbClr val="4a568a"/>
                </a:solidFill>
                <a:latin typeface="Arial"/>
                <a:ea typeface="Arial"/>
              </a:rPr>
              <a:t>Des zones somb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0960" indent="-210960">
              <a:tabLst>
                <a:tab algn="l" pos="0"/>
                <a:tab algn="l" pos="210960"/>
                <a:tab algn="l" pos="896760"/>
                <a:tab algn="l" pos="1582560"/>
                <a:tab algn="l" pos="2268360"/>
                <a:tab algn="l" pos="2954160"/>
                <a:tab algn="l" pos="3641760"/>
                <a:tab algn="l" pos="4327560"/>
                <a:tab algn="l" pos="5013360"/>
                <a:tab algn="l" pos="5699160"/>
                <a:tab algn="l" pos="6384960"/>
                <a:tab algn="l" pos="7070760"/>
                <a:tab algn="l" pos="775656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Text Box 11"/>
          <p:cNvSpPr/>
          <p:nvPr/>
        </p:nvSpPr>
        <p:spPr>
          <a:xfrm>
            <a:off x="3970440" y="3475080"/>
            <a:ext cx="2682720" cy="555480"/>
          </a:xfrm>
          <a:prstGeom prst="rect">
            <a:avLst/>
          </a:prstGeom>
          <a:solidFill>
            <a:srgbClr val="e9eb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1" marL="352440" algn="ctr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lvl="1" marL="352440" algn="ctr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515600"/>
              </a:tabLst>
            </a:pPr>
            <a:r>
              <a:rPr b="1" lang="fr-FR" sz="800" spc="-1" strike="noStrike">
                <a:solidFill>
                  <a:srgbClr val="4a568a"/>
                </a:solidFill>
                <a:latin typeface="Arial"/>
              </a:rPr>
              <a:t>Les lieux de passage, les angles aveugles, les interrupteurs mal placés…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AutoShape 12"/>
          <p:cNvSpPr/>
          <p:nvPr/>
        </p:nvSpPr>
        <p:spPr>
          <a:xfrm>
            <a:off x="3227400" y="3057480"/>
            <a:ext cx="377640" cy="217440"/>
          </a:xfrm>
          <a:custGeom>
            <a:avLst/>
            <a:gdLst>
              <a:gd name="textAreaLeft" fmla="*/ 0 w 377640"/>
              <a:gd name="textAreaRight" fmla="*/ 378000 w 3776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99" y="0"/>
                </a:lnTo>
                <a:lnTo>
                  <a:pt x="21600" y="10800"/>
                </a:lnTo>
                <a:lnTo>
                  <a:pt x="15399" y="21600"/>
                </a:lnTo>
                <a:lnTo>
                  <a:pt x="0" y="21600"/>
                </a:lnTo>
                <a:lnTo>
                  <a:pt x="6201" y="10800"/>
                </a:lnTo>
                <a:close/>
              </a:path>
            </a:pathLst>
          </a:custGeom>
          <a:solidFill>
            <a:srgbClr val="c7cce1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AutoShape 13"/>
          <p:cNvSpPr/>
          <p:nvPr/>
        </p:nvSpPr>
        <p:spPr>
          <a:xfrm>
            <a:off x="3227400" y="3652920"/>
            <a:ext cx="377640" cy="215640"/>
          </a:xfrm>
          <a:custGeom>
            <a:avLst/>
            <a:gdLst>
              <a:gd name="textAreaLeft" fmla="*/ 0 w 377640"/>
              <a:gd name="textAreaRight" fmla="*/ 378000 w 3776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99" y="0"/>
                </a:lnTo>
                <a:lnTo>
                  <a:pt x="21600" y="10800"/>
                </a:lnTo>
                <a:lnTo>
                  <a:pt x="15399" y="21600"/>
                </a:lnTo>
                <a:lnTo>
                  <a:pt x="0" y="21600"/>
                </a:lnTo>
                <a:lnTo>
                  <a:pt x="6201" y="10800"/>
                </a:lnTo>
                <a:close/>
              </a:path>
            </a:pathLst>
          </a:custGeom>
          <a:solidFill>
            <a:srgbClr val="c7cce1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14"/>
          <p:cNvSpPr/>
          <p:nvPr/>
        </p:nvSpPr>
        <p:spPr>
          <a:xfrm>
            <a:off x="189000" y="1406520"/>
            <a:ext cx="648180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lvl="1" marL="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515600"/>
              </a:tabLst>
            </a:pPr>
            <a:r>
              <a:rPr b="0" lang="fr-FR" sz="1000" spc="-1" strike="noStrike">
                <a:solidFill>
                  <a:srgbClr val="4a568a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352440">
              <a:tabLst>
                <a:tab algn="l" pos="0"/>
                <a:tab algn="l" pos="352440"/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 Box 15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769065-15A6-4BB8-B479-B838A2B314ED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Text Box 1"/>
          <p:cNvSpPr/>
          <p:nvPr/>
        </p:nvSpPr>
        <p:spPr>
          <a:xfrm>
            <a:off x="372960" y="1735200"/>
            <a:ext cx="6050160" cy="20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66680" algn="ctr">
              <a:spcBef>
                <a:spcPts val="2812"/>
              </a:spcBef>
              <a:tabLst>
                <a:tab algn="l" pos="0"/>
                <a:tab algn="l" pos="804960"/>
                <a:tab algn="l" pos="1719360"/>
                <a:tab algn="l" pos="2633760"/>
                <a:tab algn="l" pos="3548160"/>
                <a:tab algn="l" pos="4462560"/>
                <a:tab algn="l" pos="5376960"/>
                <a:tab algn="l" pos="6291360"/>
                <a:tab algn="l" pos="7205760"/>
                <a:tab algn="l" pos="8120160"/>
                <a:tab algn="l" pos="9034560"/>
                <a:tab algn="l" pos="9948960"/>
                <a:tab algn="l" pos="10058400"/>
                <a:tab algn="l" pos="10515600"/>
              </a:tabLst>
            </a:pPr>
            <a:r>
              <a:rPr b="1" lang="fr-FR" sz="3000" spc="-1" strike="noStrike">
                <a:solidFill>
                  <a:srgbClr val="4a568a"/>
                </a:solidFill>
                <a:latin typeface="Arial"/>
              </a:rPr>
              <a:t>Et chez soi, comment éviter les éléments perturbateurs 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98320" indent="-158760">
              <a:spcBef>
                <a:spcPts val="1500"/>
              </a:spcBef>
              <a:tabLst>
                <a:tab algn="l" pos="0"/>
                <a:tab algn="l" pos="804960"/>
                <a:tab algn="l" pos="1719360"/>
                <a:tab algn="l" pos="2633760"/>
                <a:tab algn="l" pos="3548160"/>
                <a:tab algn="l" pos="4462560"/>
                <a:tab algn="l" pos="5376960"/>
                <a:tab algn="l" pos="6291360"/>
                <a:tab algn="l" pos="7205760"/>
                <a:tab algn="l" pos="8120160"/>
                <a:tab algn="l" pos="9034560"/>
                <a:tab algn="l" pos="99489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 Box 2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9CF129-3FD0-4CB3-935E-2AFED28E812C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1"/>
          <p:cNvSpPr/>
          <p:nvPr/>
        </p:nvSpPr>
        <p:spPr>
          <a:xfrm>
            <a:off x="351000" y="217440"/>
            <a:ext cx="604980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380880" indent="-255600">
              <a:lnSpc>
                <a:spcPct val="100000"/>
              </a:lnSpc>
              <a:spcBef>
                <a:spcPts val="2537"/>
              </a:spcBef>
              <a:buClr>
                <a:srgbClr val="4a568a"/>
              </a:buClr>
              <a:buSzPct val="80000"/>
              <a:buFont typeface="Wingdings" charset="2"/>
              <a:buChar char=""/>
              <a:tabLst>
                <a:tab algn="l" pos="614520"/>
                <a:tab algn="l" pos="1300320"/>
                <a:tab algn="l" pos="1987560"/>
                <a:tab algn="l" pos="2673360"/>
                <a:tab algn="l" pos="3359160"/>
                <a:tab algn="l" pos="4044960"/>
                <a:tab algn="l" pos="4730760"/>
                <a:tab algn="l" pos="5416560"/>
                <a:tab algn="l" pos="6102360"/>
                <a:tab algn="l" pos="6788160"/>
                <a:tab algn="l" pos="74754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Rendre sa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 cuisine </a:t>
            </a:r>
            <a:r>
              <a:rPr b="1" lang="fr-FR" sz="2700" spc="-1" strike="noStrike">
                <a:solidFill>
                  <a:srgbClr val="4a568a"/>
                </a:solidFill>
                <a:latin typeface="Arial"/>
                <a:ea typeface="Arial"/>
              </a:rPr>
              <a:t>plus sûr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255600">
              <a:lnSpc>
                <a:spcPct val="100000"/>
              </a:lnSpc>
              <a:spcBef>
                <a:spcPts val="2537"/>
              </a:spcBef>
              <a:tabLst>
                <a:tab algn="l" pos="0"/>
                <a:tab algn="l" pos="614520"/>
                <a:tab algn="l" pos="1300320"/>
                <a:tab algn="l" pos="1987560"/>
                <a:tab algn="l" pos="2673360"/>
                <a:tab algn="l" pos="3359160"/>
                <a:tab algn="l" pos="4044960"/>
                <a:tab algn="l" pos="4730760"/>
                <a:tab algn="l" pos="5416560"/>
                <a:tab algn="l" pos="6102360"/>
                <a:tab algn="l" pos="6788160"/>
                <a:tab algn="l" pos="74754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380880" indent="-25560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614520"/>
                <a:tab algn="l" pos="1300320"/>
                <a:tab algn="l" pos="1987560"/>
                <a:tab algn="l" pos="2673360"/>
                <a:tab algn="l" pos="3359160"/>
                <a:tab algn="l" pos="4044960"/>
                <a:tab algn="l" pos="4730760"/>
                <a:tab algn="l" pos="5416560"/>
                <a:tab algn="l" pos="6102360"/>
                <a:tab algn="l" pos="6788160"/>
                <a:tab algn="l" pos="74754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Rectangle 2"/>
          <p:cNvSpPr/>
          <p:nvPr/>
        </p:nvSpPr>
        <p:spPr>
          <a:xfrm>
            <a:off x="549360" y="950760"/>
            <a:ext cx="34081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ménagements fac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3" name="Picture 3" descr=""/>
          <p:cNvPicPr/>
          <p:nvPr/>
        </p:nvPicPr>
        <p:blipFill>
          <a:blip r:embed="rId1"/>
          <a:stretch/>
        </p:blipFill>
        <p:spPr>
          <a:xfrm>
            <a:off x="6427800" y="6261120"/>
            <a:ext cx="351000" cy="135000"/>
          </a:xfrm>
          <a:prstGeom prst="rect">
            <a:avLst/>
          </a:prstGeom>
          <a:ln w="0">
            <a:noFill/>
          </a:ln>
        </p:spPr>
      </p:pic>
      <p:sp>
        <p:nvSpPr>
          <p:cNvPr id="1174" name="Text Box 4"/>
          <p:cNvSpPr/>
          <p:nvPr/>
        </p:nvSpPr>
        <p:spPr>
          <a:xfrm>
            <a:off x="4726080" y="6288120"/>
            <a:ext cx="20970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© janvier 2016 – Calyxis – Tous droits réservés.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 Box 5"/>
          <p:cNvSpPr/>
          <p:nvPr/>
        </p:nvSpPr>
        <p:spPr>
          <a:xfrm>
            <a:off x="6130800" y="4168800"/>
            <a:ext cx="48600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83A935-5501-46B4-9F06-C8498E5362D7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 Box 6"/>
          <p:cNvSpPr/>
          <p:nvPr/>
        </p:nvSpPr>
        <p:spPr>
          <a:xfrm>
            <a:off x="1351080" y="1455840"/>
            <a:ext cx="16732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Réorgan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es placards et tiro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Text Box 7"/>
          <p:cNvSpPr/>
          <p:nvPr/>
        </p:nvSpPr>
        <p:spPr>
          <a:xfrm>
            <a:off x="1452600" y="2739960"/>
            <a:ext cx="167472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Bien position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es prises électriq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Text Box 8"/>
          <p:cNvSpPr/>
          <p:nvPr/>
        </p:nvSpPr>
        <p:spPr>
          <a:xfrm>
            <a:off x="1427040" y="2058840"/>
            <a:ext cx="16732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Nettoy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le s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9" name="Picture 9" descr=""/>
          <p:cNvPicPr/>
          <p:nvPr/>
        </p:nvPicPr>
        <p:blipFill>
          <a:blip r:embed="rId2"/>
          <a:stretch/>
        </p:blipFill>
        <p:spPr>
          <a:xfrm>
            <a:off x="243000" y="1708200"/>
            <a:ext cx="1046160" cy="1047600"/>
          </a:xfrm>
          <a:prstGeom prst="rect">
            <a:avLst/>
          </a:prstGeom>
          <a:ln w="0">
            <a:noFill/>
          </a:ln>
        </p:spPr>
      </p:pic>
      <p:sp>
        <p:nvSpPr>
          <p:cNvPr id="1180" name="Text Box 10"/>
          <p:cNvSpPr/>
          <p:nvPr/>
        </p:nvSpPr>
        <p:spPr>
          <a:xfrm>
            <a:off x="4100400" y="2139840"/>
            <a:ext cx="16750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Des installations faciles d’accè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11"/>
          <p:cNvSpPr/>
          <p:nvPr/>
        </p:nvSpPr>
        <p:spPr>
          <a:xfrm>
            <a:off x="3389400" y="1650960"/>
            <a:ext cx="3408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2100" spc="-1" strike="noStrike">
                <a:solidFill>
                  <a:srgbClr val="002060"/>
                </a:solidFill>
                <a:latin typeface="Arial"/>
              </a:rPr>
              <a:t>Travaux plus important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12"/>
          <p:cNvSpPr/>
          <p:nvPr/>
        </p:nvSpPr>
        <p:spPr>
          <a:xfrm>
            <a:off x="4186080" y="2722680"/>
            <a:ext cx="1675080" cy="2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Un éclairage adapté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Text Box 13"/>
          <p:cNvSpPr/>
          <p:nvPr/>
        </p:nvSpPr>
        <p:spPr>
          <a:xfrm>
            <a:off x="4245120" y="3011400"/>
            <a:ext cx="13492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Des équipements fonctionn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Text Box 14"/>
          <p:cNvSpPr/>
          <p:nvPr/>
        </p:nvSpPr>
        <p:spPr>
          <a:xfrm>
            <a:off x="4262400" y="3484440"/>
            <a:ext cx="135108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Un carrelag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"/>
              </a:rPr>
              <a:t>non glissa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1T12:58:47Z</dcterms:created>
  <dc:creator>Murielle Bouin</dc:creator>
  <dc:description/>
  <dc:language>en-US</dc:language>
  <cp:lastModifiedBy>Laurence Hue</cp:lastModifiedBy>
  <cp:lastPrinted>2016-01-13T15:41:22Z</cp:lastPrinted>
  <dcterms:modified xsi:type="dcterms:W3CDTF">2024-03-14T15:25:42Z</dcterms:modified>
  <cp:revision>335</cp:revision>
  <dc:subject/>
  <dc:title>Présentation PowerPoint</dc:title>
</cp:coreProperties>
</file>